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391520" y="6172200"/>
            <a:ext cx="1447560" cy="38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nnot: A genome annotation tool using experiment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iko Sabo &amp; Li 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me Sequencing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ton University, St. Lo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391520" y="6172200"/>
            <a:ext cx="1447560" cy="387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6600" y="5562720"/>
            <a:ext cx="1797120" cy="81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753160" y="3441600"/>
            <a:ext cx="335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rcRect l="0" t="16527" r="0" b="11059"/>
          <a:stretch/>
        </p:blipFill>
        <p:spPr>
          <a:xfrm>
            <a:off x="208080" y="1581120"/>
            <a:ext cx="5803920" cy="3052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268280" y="3473280"/>
            <a:ext cx="7742520" cy="641520"/>
          </a:xfrm>
          <a:prstGeom prst="roundRect">
            <a:avLst>
              <a:gd name="adj" fmla="val 181"/>
            </a:avLst>
          </a:prstGeom>
          <a:noFill/>
          <a:ln w="38160">
            <a:solidFill>
              <a:srgbClr val="d404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0680" y="525600"/>
            <a:ext cx="8715240" cy="37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resolved problems with CDS are placed in remark field for the annot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A signal and site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3000"/>
              </a:lnSpc>
              <a:spcBef>
                <a:spcPts val="57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ced and non-spliced ESTs and mRNAs with PolyA 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22400" y="3716280"/>
            <a:ext cx="45151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sence of a polyA site/sig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non-spliced ESTs is additional ev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utative 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rcRect l="0" t="5430" r="18553" b="0"/>
          <a:stretch/>
        </p:blipFill>
        <p:spPr>
          <a:xfrm>
            <a:off x="576360" y="1974960"/>
            <a:ext cx="3359160" cy="424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719240" y="5369040"/>
            <a:ext cx="12549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A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A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827080" y="5538960"/>
            <a:ext cx="1517400" cy="99720"/>
          </a:xfrm>
          <a:prstGeom prst="line">
            <a:avLst/>
          </a:prstGeom>
          <a:ln w="18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665440" y="5789160"/>
            <a:ext cx="1636560" cy="79560"/>
          </a:xfrm>
          <a:prstGeom prst="line">
            <a:avLst/>
          </a:prstGeom>
          <a:ln w="18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609560" y="166680"/>
            <a:ext cx="51688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nnot performance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3000"/>
              </a:lnSpc>
              <a:spcBef>
                <a:spcPts val="57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chromosome 6 annotation (Sa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annotation: 1557 genes, 3271 tran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nnot annotation: 1724 genes, 5266 tran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7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7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 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7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7% manually annotated genes overlap EAnnot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7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% EAnnot don’t overlap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7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7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lice site le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76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ity 86%, specificity 8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7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7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nnot can be a good stand alone annotati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57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4932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with chr6 manual an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0" t="11070" r="68646" b="3688"/>
          <a:stretch/>
        </p:blipFill>
        <p:spPr>
          <a:xfrm>
            <a:off x="1909800" y="719280"/>
            <a:ext cx="1366920" cy="5497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 flipH="1">
            <a:off x="2763720" y="3040200"/>
            <a:ext cx="172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601720" y="3032280"/>
            <a:ext cx="1881000" cy="43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2909520" y="3579840"/>
            <a:ext cx="1708200" cy="795240"/>
          </a:xfrm>
          <a:prstGeom prst="line">
            <a:avLst/>
          </a:prstGeom>
          <a:ln w="9360">
            <a:solidFill>
              <a:srgbClr val="004a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080880" y="3589200"/>
            <a:ext cx="1536840" cy="914400"/>
          </a:xfrm>
          <a:prstGeom prst="line">
            <a:avLst/>
          </a:prstGeom>
          <a:ln w="9360">
            <a:solidFill>
              <a:srgbClr val="004a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28160" y="3005280"/>
            <a:ext cx="31582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nnot gene models the s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manually anno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with chr6 manual an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3599" t="12179" r="0" b="5416"/>
          <a:stretch/>
        </p:blipFill>
        <p:spPr>
          <a:xfrm>
            <a:off x="704880" y="1219320"/>
            <a:ext cx="3708360" cy="5086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flipH="1">
            <a:off x="3087720" y="3301920"/>
            <a:ext cx="247176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900080" y="1405080"/>
            <a:ext cx="7097400" cy="4738680"/>
            <a:chOff x="1900080" y="1405080"/>
            <a:chExt cx="7097400" cy="4738680"/>
          </a:xfrm>
        </p:grpSpPr>
        <p:sp>
          <p:nvSpPr>
            <p:cNvPr id="327" name=""/>
            <p:cNvSpPr/>
            <p:nvPr/>
          </p:nvSpPr>
          <p:spPr>
            <a:xfrm>
              <a:off x="5610600" y="3794040"/>
              <a:ext cx="33868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at mRNA did not pass thresho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annot split gene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00080" y="1405080"/>
              <a:ext cx="489240" cy="4738680"/>
            </a:xfrm>
            <a:custGeom>
              <a:avLst/>
              <a:gdLst>
                <a:gd name="textAreaLeft" fmla="*/ 360 w 489240"/>
                <a:gd name="textAreaRight" fmla="*/ 488880 w 489240"/>
                <a:gd name="textAreaTop" fmla="*/ 360 h 4738680"/>
                <a:gd name="textAreaBottom" fmla="*/ 4738320 h 4738680"/>
              </a:gdLst>
              <a:ahLst/>
              <a:rect l="textAreaLeft" t="textAreaTop" r="textAreaRight" b="textAreaBottom"/>
              <a:pathLst>
                <a:path w="21600" h="209075">
                  <a:moveTo>
                    <a:pt x="70" y="0"/>
                  </a:moveTo>
                  <a:arcTo wR="70" hR="70" stAng="16200000" swAng="-5400000"/>
                  <a:lnTo>
                    <a:pt x="0" y="209005"/>
                  </a:lnTo>
                  <a:arcTo wR="70" hR="70" stAng="10800000" swAng="-5400000"/>
                  <a:lnTo>
                    <a:pt x="21530" y="209075"/>
                  </a:lnTo>
                  <a:arcTo wR="70" hR="70" stAng="5400000" swAng="-5400000"/>
                  <a:lnTo>
                    <a:pt x="21600" y="70"/>
                  </a:lnTo>
                  <a:arcTo wR="70" hR="70" stAng="0" swAng="-5400000"/>
                  <a:close/>
                </a:path>
              </a:pathLst>
            </a:custGeom>
            <a:noFill/>
            <a:ln w="18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440080" y="4025880"/>
              <a:ext cx="309384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474880" y="3100320"/>
            <a:ext cx="3744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ual annotation used rat mR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32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with chr6 manual an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06960" y="3092400"/>
            <a:ext cx="38685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nnot mi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ing EST did not pass thresh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rcRect l="0" t="20728" r="0" b="3688"/>
          <a:stretch/>
        </p:blipFill>
        <p:spPr>
          <a:xfrm>
            <a:off x="2141640" y="1523880"/>
            <a:ext cx="1550880" cy="4534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 flipH="1">
            <a:off x="3321000" y="3301920"/>
            <a:ext cx="1735200" cy="5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with chr6 manual an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0" t="10982" r="0" b="3659"/>
          <a:stretch/>
        </p:blipFill>
        <p:spPr>
          <a:xfrm>
            <a:off x="355680" y="907920"/>
            <a:ext cx="6797520" cy="53787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962520" y="762120"/>
            <a:ext cx="5181480" cy="5376600"/>
          </a:xfrm>
          <a:custGeom>
            <a:avLst/>
            <a:gdLst>
              <a:gd name="textAreaLeft" fmla="*/ 360 w 5181480"/>
              <a:gd name="textAreaRight" fmla="*/ 5181120 w 5181480"/>
              <a:gd name="textAreaTop" fmla="*/ 360 h 5376600"/>
              <a:gd name="textAreaBottom" fmla="*/ 5376240 h 5376600"/>
            </a:gdLst>
            <a:ahLst/>
            <a:rect l="textAreaLeft" t="textAreaTop" r="textAreaRight" b="textAreaBottom"/>
            <a:pathLst>
              <a:path w="21600" h="22413">
                <a:moveTo>
                  <a:pt x="8" y="0"/>
                </a:moveTo>
                <a:arcTo wR="8" hR="8" stAng="16200000" swAng="-5400000"/>
                <a:lnTo>
                  <a:pt x="0" y="22405"/>
                </a:lnTo>
                <a:arcTo wR="8" hR="8" stAng="10800000" swAng="-5400000"/>
                <a:lnTo>
                  <a:pt x="21592" y="22413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44960" y="2085840"/>
            <a:ext cx="5013000" cy="34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nnot created additional splic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4608360" y="3389400"/>
            <a:ext cx="4434120" cy="15764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 flipH="1">
            <a:off x="1376280" y="3809880"/>
            <a:ext cx="2586240" cy="1527120"/>
          </a:xfrm>
          <a:prstGeom prst="line">
            <a:avLst/>
          </a:prstGeom>
          <a:ln w="18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804240" y="307800"/>
            <a:ext cx="734508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EAnnot in annot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-human geno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Histoplasma capsula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4760" y="22557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ganism specific expression data not abundant in Gen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1523880"/>
            <a:ext cx="8229600" cy="284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33880" y="2286000"/>
            <a:ext cx="3657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ll availabl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 stitching, merging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4760" y="3228840"/>
            <a:ext cx="262872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homology lo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95720" y="3200400"/>
            <a:ext cx="323388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identity and gap thres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8280" y="3965400"/>
            <a:ext cx="32068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s different than vertebrate genes; large exons, small intron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4116240"/>
            <a:ext cx="419112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gene and intron size para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4760" y="5495760"/>
            <a:ext cx="161928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lice 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33880" y="5413320"/>
            <a:ext cx="36464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lice variants based on organism specific expression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4760" y="4878360"/>
            <a:ext cx="272880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lice consensus p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81680" y="4835520"/>
            <a:ext cx="350496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sm specific splice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51120" y="248436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51120" y="3276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51120" y="411804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1120" y="48769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51120" y="5562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rcRect l="19877" t="23126" r="38724" b="14635"/>
          <a:stretch/>
        </p:blipFill>
        <p:spPr>
          <a:xfrm>
            <a:off x="1600200" y="1219320"/>
            <a:ext cx="3505320" cy="38890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222200" y="5675400"/>
            <a:ext cx="1978200" cy="25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d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82560" y="5483160"/>
            <a:ext cx="22060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 based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26480" y="4778280"/>
            <a:ext cx="31327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stoplasma EST based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4079520" y="4363560"/>
            <a:ext cx="1074600" cy="490680"/>
          </a:xfrm>
          <a:prstGeom prst="line">
            <a:avLst/>
          </a:prstGeom>
          <a:ln w="18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3637080" y="4309560"/>
            <a:ext cx="1436400" cy="1341720"/>
          </a:xfrm>
          <a:prstGeom prst="line">
            <a:avLst/>
          </a:prstGeom>
          <a:ln w="18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905120" y="4338360"/>
            <a:ext cx="1222200" cy="1251000"/>
          </a:xfrm>
          <a:prstGeom prst="line">
            <a:avLst/>
          </a:prstGeom>
          <a:ln w="18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11360" y="380880"/>
            <a:ext cx="7441920" cy="25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ing depends on the type and quality of the underly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00400" y="42670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03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ual an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nnot saves time by creating gene models and attaching information (supporting evidence, CDS evaluation, loc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s accuracy and consis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nnot can be used as stand alone gene prediction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ture: other formats in addition to AceD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 annotation of human chromosomes 2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whelming amount of expression sequence data for annotators to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391520" y="6172200"/>
            <a:ext cx="1447560" cy="38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1385" t="0" r="0" b="0"/>
          <a:stretch/>
        </p:blipFill>
        <p:spPr>
          <a:xfrm>
            <a:off x="39600" y="2133720"/>
            <a:ext cx="8852040" cy="30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746280" y="1179360"/>
            <a:ext cx="2987640" cy="36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SC annotation group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iko Sa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 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kha Me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mberlyn Bi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il Ozers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colas Berkowic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Deana Hil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ym Pep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hn Spi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s pseudogenes based on RefSeq locus link information and fish band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8077" t="9664" r="20203" b="0"/>
          <a:stretch/>
        </p:blipFill>
        <p:spPr>
          <a:xfrm>
            <a:off x="152280" y="1905120"/>
            <a:ext cx="3319560" cy="37335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rcRect l="0" t="7256" r="0" b="3312"/>
          <a:stretch/>
        </p:blipFill>
        <p:spPr>
          <a:xfrm>
            <a:off x="3657600" y="2438280"/>
            <a:ext cx="5486400" cy="24386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992920" y="4451400"/>
            <a:ext cx="3151080" cy="501480"/>
          </a:xfrm>
          <a:prstGeom prst="roundRect">
            <a:avLst>
              <a:gd name="adj" fmla="val 315"/>
            </a:avLst>
          </a:prstGeom>
          <a:noFill/>
          <a:ln w="38160">
            <a:solidFill>
              <a:srgbClr val="d404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nnot = Electronic Annot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to aid manual annotation by removing the most time consuming and repetitive tas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575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creation of gen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CDS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us information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as EAnnot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91520" y="6172200"/>
            <a:ext cx="1447560" cy="3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685800" y="1143000"/>
            <a:ext cx="2448000" cy="657360"/>
            <a:chOff x="685800" y="1143000"/>
            <a:chExt cx="2448000" cy="657360"/>
          </a:xfrm>
        </p:grpSpPr>
        <p:sp>
          <p:nvSpPr>
            <p:cNvPr id="50" name=""/>
            <p:cNvSpPr/>
            <p:nvPr/>
          </p:nvSpPr>
          <p:spPr>
            <a:xfrm>
              <a:off x="685800" y="1143000"/>
              <a:ext cx="2448000" cy="657360"/>
            </a:xfrm>
            <a:prstGeom prst="roundRect">
              <a:avLst>
                <a:gd name="adj" fmla="val 241"/>
              </a:avLst>
            </a:prstGeom>
            <a:solidFill>
              <a:srgbClr val="d9ede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3720" y="1143000"/>
              <a:ext cx="243180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:  mRNA, EST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tein align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701720" y="2209680"/>
            <a:ext cx="5381640" cy="657360"/>
            <a:chOff x="1701720" y="2209680"/>
            <a:chExt cx="5381640" cy="657360"/>
          </a:xfrm>
        </p:grpSpPr>
        <p:sp>
          <p:nvSpPr>
            <p:cNvPr id="53" name=""/>
            <p:cNvSpPr/>
            <p:nvPr/>
          </p:nvSpPr>
          <p:spPr>
            <a:xfrm>
              <a:off x="1701720" y="2209680"/>
              <a:ext cx="5381640" cy="657360"/>
            </a:xfrm>
            <a:prstGeom prst="roundRect">
              <a:avLst>
                <a:gd name="adj" fmla="val 24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480" y="2209680"/>
              <a:ext cx="535176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EP 1: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Gene boundaries create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based 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nd assignment, sequence overlap, clone link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191120" y="2971800"/>
            <a:ext cx="228600" cy="380880"/>
          </a:xfrm>
          <a:custGeom>
            <a:avLst/>
            <a:gdLst/>
            <a:ahLst/>
            <a:rect l="l" t="t" r="r" b="b"/>
            <a:pathLst>
              <a:path w="636" h="1059">
                <a:moveTo>
                  <a:pt x="158" y="0"/>
                </a:moveTo>
                <a:lnTo>
                  <a:pt x="158" y="793"/>
                </a:lnTo>
                <a:lnTo>
                  <a:pt x="0" y="793"/>
                </a:lnTo>
                <a:lnTo>
                  <a:pt x="317" y="1058"/>
                </a:lnTo>
                <a:lnTo>
                  <a:pt x="635" y="793"/>
                </a:lnTo>
                <a:lnTo>
                  <a:pt x="476" y="793"/>
                </a:lnTo>
                <a:lnTo>
                  <a:pt x="476" y="0"/>
                </a:lnTo>
                <a:lnTo>
                  <a:pt x="15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223640" y="3454560"/>
            <a:ext cx="6388200" cy="658800"/>
            <a:chOff x="1223640" y="3454560"/>
            <a:chExt cx="6388200" cy="658800"/>
          </a:xfrm>
        </p:grpSpPr>
        <p:sp>
          <p:nvSpPr>
            <p:cNvPr id="57" name=""/>
            <p:cNvSpPr/>
            <p:nvPr/>
          </p:nvSpPr>
          <p:spPr>
            <a:xfrm>
              <a:off x="1301760" y="3454560"/>
              <a:ext cx="6234120" cy="658800"/>
            </a:xfrm>
            <a:prstGeom prst="roundRect">
              <a:avLst>
                <a:gd name="adj" fmla="val 24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23640" y="3454560"/>
              <a:ext cx="638820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EP 2:  mRNAs and ESTs clustered, </a:t>
              </a: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gene models created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on/intron boundaries fine tuned using splice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952560" y="4643280"/>
            <a:ext cx="6892920" cy="382680"/>
            <a:chOff x="952560" y="4643280"/>
            <a:chExt cx="6892920" cy="382680"/>
          </a:xfrm>
        </p:grpSpPr>
        <p:sp>
          <p:nvSpPr>
            <p:cNvPr id="60" name=""/>
            <p:cNvSpPr/>
            <p:nvPr/>
          </p:nvSpPr>
          <p:spPr>
            <a:xfrm>
              <a:off x="952560" y="4643280"/>
              <a:ext cx="6892920" cy="382680"/>
            </a:xfrm>
            <a:prstGeom prst="roundRect">
              <a:avLst>
                <a:gd name="adj" fmla="val 412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66600" y="4643280"/>
              <a:ext cx="68648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EP 3:  gene models evaluated, corrected based on protein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050920" y="5562720"/>
            <a:ext cx="4569120" cy="382320"/>
            <a:chOff x="2050920" y="5562720"/>
            <a:chExt cx="4569120" cy="382320"/>
          </a:xfrm>
        </p:grpSpPr>
        <p:sp>
          <p:nvSpPr>
            <p:cNvPr id="63" name=""/>
            <p:cNvSpPr/>
            <p:nvPr/>
          </p:nvSpPr>
          <p:spPr>
            <a:xfrm>
              <a:off x="2050920" y="5562720"/>
              <a:ext cx="4569120" cy="382320"/>
            </a:xfrm>
            <a:prstGeom prst="roundRect">
              <a:avLst>
                <a:gd name="adj" fmla="val 412"/>
              </a:avLst>
            </a:prstGeom>
            <a:solidFill>
              <a:srgbClr val="d9ff6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61720" y="5562720"/>
              <a:ext cx="45471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EP 4 OUTPUT:  annotated gene mod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EAnno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05520" y="1143000"/>
            <a:ext cx="3427200" cy="658800"/>
            <a:chOff x="5105520" y="1143000"/>
            <a:chExt cx="3427200" cy="658800"/>
          </a:xfrm>
        </p:grpSpPr>
        <p:sp>
          <p:nvSpPr>
            <p:cNvPr id="67" name=""/>
            <p:cNvSpPr/>
            <p:nvPr/>
          </p:nvSpPr>
          <p:spPr>
            <a:xfrm>
              <a:off x="5105520" y="1143000"/>
              <a:ext cx="3427200" cy="658800"/>
            </a:xfrm>
            <a:prstGeom prst="roundRect">
              <a:avLst>
                <a:gd name="adj" fmla="val 241"/>
              </a:avLst>
            </a:prstGeom>
            <a:solidFill>
              <a:srgbClr val="d9ede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17040" y="1143000"/>
              <a:ext cx="340236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:  Genomic seque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lones, contigs, chromosom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124080" y="1371600"/>
            <a:ext cx="723960" cy="800280"/>
          </a:xfrm>
          <a:custGeom>
            <a:avLst/>
            <a:gdLst/>
            <a:ahLst/>
            <a:rect l="l" t="t" r="r" b="b"/>
            <a:pathLst>
              <a:path w="2012" h="2224">
                <a:moveTo>
                  <a:pt x="0" y="0"/>
                </a:moveTo>
                <a:lnTo>
                  <a:pt x="879" y="0"/>
                </a:lnTo>
                <a:cubicBezTo>
                  <a:pt x="1263" y="0"/>
                  <a:pt x="1647" y="639"/>
                  <a:pt x="1647" y="1278"/>
                </a:cubicBezTo>
                <a:lnTo>
                  <a:pt x="1647" y="1533"/>
                </a:lnTo>
                <a:lnTo>
                  <a:pt x="2011" y="1533"/>
                </a:lnTo>
                <a:lnTo>
                  <a:pt x="1445" y="2223"/>
                </a:lnTo>
                <a:lnTo>
                  <a:pt x="879" y="1533"/>
                </a:lnTo>
                <a:lnTo>
                  <a:pt x="1244" y="1533"/>
                </a:lnTo>
                <a:lnTo>
                  <a:pt x="1244" y="1278"/>
                </a:lnTo>
                <a:cubicBezTo>
                  <a:pt x="1244" y="861"/>
                  <a:pt x="1062" y="444"/>
                  <a:pt x="879" y="444"/>
                </a:cubicBezTo>
                <a:lnTo>
                  <a:pt x="0" y="4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84800" y="1419120"/>
            <a:ext cx="720720" cy="768600"/>
          </a:xfrm>
          <a:custGeom>
            <a:avLst/>
            <a:gdLst/>
            <a:ahLst/>
            <a:rect l="l" t="t" r="r" b="b"/>
            <a:pathLst>
              <a:path w="2002" h="2134">
                <a:moveTo>
                  <a:pt x="1997" y="0"/>
                </a:moveTo>
                <a:lnTo>
                  <a:pt x="1117" y="9"/>
                </a:lnTo>
                <a:cubicBezTo>
                  <a:pt x="734" y="11"/>
                  <a:pt x="354" y="625"/>
                  <a:pt x="360" y="1233"/>
                </a:cubicBezTo>
                <a:lnTo>
                  <a:pt x="363" y="1476"/>
                </a:lnTo>
                <a:lnTo>
                  <a:pt x="0" y="1479"/>
                </a:lnTo>
                <a:lnTo>
                  <a:pt x="570" y="2133"/>
                </a:lnTo>
                <a:lnTo>
                  <a:pt x="1130" y="1469"/>
                </a:lnTo>
                <a:lnTo>
                  <a:pt x="766" y="1473"/>
                </a:lnTo>
                <a:lnTo>
                  <a:pt x="764" y="1229"/>
                </a:lnTo>
                <a:cubicBezTo>
                  <a:pt x="759" y="831"/>
                  <a:pt x="938" y="434"/>
                  <a:pt x="1122" y="430"/>
                </a:cubicBezTo>
                <a:lnTo>
                  <a:pt x="2001" y="42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4191120"/>
            <a:ext cx="228600" cy="380880"/>
          </a:xfrm>
          <a:custGeom>
            <a:avLst/>
            <a:gdLst/>
            <a:ahLst/>
            <a:rect l="l" t="t" r="r" b="b"/>
            <a:pathLst>
              <a:path w="636" h="1059">
                <a:moveTo>
                  <a:pt x="158" y="0"/>
                </a:moveTo>
                <a:lnTo>
                  <a:pt x="158" y="793"/>
                </a:lnTo>
                <a:lnTo>
                  <a:pt x="0" y="793"/>
                </a:lnTo>
                <a:lnTo>
                  <a:pt x="317" y="1058"/>
                </a:lnTo>
                <a:lnTo>
                  <a:pt x="635" y="793"/>
                </a:lnTo>
                <a:lnTo>
                  <a:pt x="476" y="793"/>
                </a:lnTo>
                <a:lnTo>
                  <a:pt x="476" y="0"/>
                </a:lnTo>
                <a:lnTo>
                  <a:pt x="15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5105520"/>
            <a:ext cx="228600" cy="380880"/>
          </a:xfrm>
          <a:custGeom>
            <a:avLst/>
            <a:gdLst/>
            <a:ahLst/>
            <a:rect l="l" t="t" r="r" b="b"/>
            <a:pathLst>
              <a:path w="636" h="1059">
                <a:moveTo>
                  <a:pt x="158" y="0"/>
                </a:moveTo>
                <a:lnTo>
                  <a:pt x="158" y="793"/>
                </a:lnTo>
                <a:lnTo>
                  <a:pt x="0" y="793"/>
                </a:lnTo>
                <a:lnTo>
                  <a:pt x="317" y="1058"/>
                </a:lnTo>
                <a:lnTo>
                  <a:pt x="635" y="793"/>
                </a:lnTo>
                <a:lnTo>
                  <a:pt x="476" y="793"/>
                </a:lnTo>
                <a:lnTo>
                  <a:pt x="476" y="0"/>
                </a:lnTo>
                <a:lnTo>
                  <a:pt x="15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11800" y="1531800"/>
            <a:ext cx="0" cy="6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95680" y="4865760"/>
            <a:ext cx="144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81440" y="5256360"/>
            <a:ext cx="144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77000" y="3121200"/>
            <a:ext cx="144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71600" y="4438800"/>
            <a:ext cx="1800" cy="19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0800000">
            <a:off x="5464080" y="2057400"/>
            <a:ext cx="22320" cy="187200"/>
          </a:xfrm>
          <a:custGeom>
            <a:avLst/>
            <a:gdLst>
              <a:gd name="textAreaLeft" fmla="*/ 360 w 22320"/>
              <a:gd name="textAreaRight" fmla="*/ 21960 w 22320"/>
              <a:gd name="textAreaTop" fmla="*/ 360 h 187200"/>
              <a:gd name="textAreaBottom" fmla="*/ 186840 h 187200"/>
            </a:gdLst>
            <a:ahLst/>
            <a:rect l="textAreaLeft" t="textAreaTop" r="textAreaRight" b="textAreaBottom"/>
            <a:pathLst>
              <a:path w="21600" h="178629">
                <a:moveTo>
                  <a:pt x="1542" y="0"/>
                </a:moveTo>
                <a:arcTo wR="1542" hR="1542" stAng="16200000" swAng="-5400000"/>
                <a:lnTo>
                  <a:pt x="0" y="177087"/>
                </a:lnTo>
                <a:arcTo wR="1542" hR="1542" stAng="10800000" swAng="-5400000"/>
                <a:lnTo>
                  <a:pt x="20058" y="178629"/>
                </a:lnTo>
                <a:arcTo wR="1542" hR="1542" stAng="5400000" swAng="-5400000"/>
                <a:lnTo>
                  <a:pt x="21600" y="1542"/>
                </a:lnTo>
                <a:arcTo wR="1542" hR="1542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5311800" y="2048040"/>
            <a:ext cx="22320" cy="187200"/>
          </a:xfrm>
          <a:custGeom>
            <a:avLst/>
            <a:gdLst>
              <a:gd name="textAreaLeft" fmla="*/ 360 w 22320"/>
              <a:gd name="textAreaRight" fmla="*/ 21960 w 22320"/>
              <a:gd name="textAreaTop" fmla="*/ 360 h 187200"/>
              <a:gd name="textAreaBottom" fmla="*/ 186840 h 187200"/>
            </a:gdLst>
            <a:ahLst/>
            <a:rect l="textAreaLeft" t="textAreaTop" r="textAreaRight" b="textAreaBottom"/>
            <a:pathLst>
              <a:path w="21600" h="178629">
                <a:moveTo>
                  <a:pt x="1542" y="0"/>
                </a:moveTo>
                <a:arcTo wR="1542" hR="1542" stAng="16200000" swAng="-5400000"/>
                <a:lnTo>
                  <a:pt x="0" y="177087"/>
                </a:lnTo>
                <a:arcTo wR="1542" hR="1542" stAng="10800000" swAng="-5400000"/>
                <a:lnTo>
                  <a:pt x="20058" y="178629"/>
                </a:lnTo>
                <a:arcTo wR="1542" hR="1542" stAng="5400000" swAng="-5400000"/>
                <a:lnTo>
                  <a:pt x="21600" y="1542"/>
                </a:lnTo>
                <a:arcTo wR="1542" hR="1542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5464080" y="1676520"/>
            <a:ext cx="22320" cy="188640"/>
          </a:xfrm>
          <a:custGeom>
            <a:avLst/>
            <a:gdLst>
              <a:gd name="textAreaLeft" fmla="*/ 360 w 22320"/>
              <a:gd name="textAreaRight" fmla="*/ 21960 w 22320"/>
              <a:gd name="textAreaTop" fmla="*/ 360 h 188640"/>
              <a:gd name="textAreaBottom" fmla="*/ 188280 h 188640"/>
            </a:gdLst>
            <a:ahLst/>
            <a:rect l="textAreaLeft" t="textAreaTop" r="textAreaRight" b="textAreaBottom"/>
            <a:pathLst>
              <a:path w="21600" h="180000">
                <a:moveTo>
                  <a:pt x="1542" y="0"/>
                </a:moveTo>
                <a:arcTo wR="1542" hR="1542" stAng="16200000" swAng="-5400000"/>
                <a:lnTo>
                  <a:pt x="0" y="178458"/>
                </a:lnTo>
                <a:arcTo wR="1542" hR="1542" stAng="10800000" swAng="-5400000"/>
                <a:lnTo>
                  <a:pt x="20058" y="180000"/>
                </a:lnTo>
                <a:arcTo wR="1542" hR="1542" stAng="5400000" swAng="-5400000"/>
                <a:lnTo>
                  <a:pt x="21600" y="1542"/>
                </a:lnTo>
                <a:arcTo wR="1542" hR="1542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5311800" y="1680840"/>
            <a:ext cx="22320" cy="189000"/>
          </a:xfrm>
          <a:custGeom>
            <a:avLst/>
            <a:gdLst>
              <a:gd name="textAreaLeft" fmla="*/ 360 w 22320"/>
              <a:gd name="textAreaRight" fmla="*/ 21960 w 22320"/>
              <a:gd name="textAreaTop" fmla="*/ 360 h 189000"/>
              <a:gd name="textAreaBottom" fmla="*/ 188640 h 189000"/>
            </a:gdLst>
            <a:ahLst/>
            <a:rect l="textAreaLeft" t="textAreaTop" r="textAreaRight" b="textAreaBottom"/>
            <a:pathLst>
              <a:path w="21600" h="180343">
                <a:moveTo>
                  <a:pt x="1542" y="0"/>
                </a:moveTo>
                <a:arcTo wR="1542" hR="1542" stAng="16200000" swAng="-5400000"/>
                <a:lnTo>
                  <a:pt x="0" y="178801"/>
                </a:lnTo>
                <a:arcTo wR="1542" hR="1542" stAng="10800000" swAng="-5400000"/>
                <a:lnTo>
                  <a:pt x="20058" y="180343"/>
                </a:lnTo>
                <a:arcTo wR="1542" hR="1542" stAng="5400000" swAng="-5400000"/>
                <a:lnTo>
                  <a:pt x="21600" y="1542"/>
                </a:lnTo>
                <a:arcTo wR="1542" hR="1542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5311800" y="1141200"/>
            <a:ext cx="22320" cy="414360"/>
          </a:xfrm>
          <a:custGeom>
            <a:avLst/>
            <a:gdLst>
              <a:gd name="textAreaLeft" fmla="*/ 360 w 22320"/>
              <a:gd name="textAreaRight" fmla="*/ 21960 w 22320"/>
              <a:gd name="textAreaTop" fmla="*/ 360 h 414360"/>
              <a:gd name="textAreaBottom" fmla="*/ 414000 h 414360"/>
            </a:gdLst>
            <a:ahLst/>
            <a:rect l="textAreaLeft" t="textAreaTop" r="textAreaRight" b="textAreaBottom"/>
            <a:pathLst>
              <a:path w="21600" h="394971">
                <a:moveTo>
                  <a:pt x="1542" y="0"/>
                </a:moveTo>
                <a:arcTo wR="1542" hR="1542" stAng="16200000" swAng="-5400000"/>
                <a:lnTo>
                  <a:pt x="0" y="393429"/>
                </a:lnTo>
                <a:arcTo wR="1542" hR="1542" stAng="10800000" swAng="-5400000"/>
                <a:lnTo>
                  <a:pt x="20058" y="394971"/>
                </a:lnTo>
                <a:arcTo wR="1542" hR="1542" stAng="5400000" swAng="-5400000"/>
                <a:lnTo>
                  <a:pt x="21600" y="1542"/>
                </a:lnTo>
                <a:arcTo wR="1542" hR="1542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5869080" y="3512880"/>
            <a:ext cx="23760" cy="384120"/>
          </a:xfrm>
          <a:custGeom>
            <a:avLst/>
            <a:gdLst>
              <a:gd name="textAreaLeft" fmla="*/ 360 w 23760"/>
              <a:gd name="textAreaRight" fmla="*/ 23400 w 23760"/>
              <a:gd name="textAreaTop" fmla="*/ 360 h 384120"/>
              <a:gd name="textAreaBottom" fmla="*/ 383760 h 384120"/>
            </a:gdLst>
            <a:ahLst/>
            <a:rect l="textAreaLeft" t="textAreaTop" r="textAreaRight" b="textAreaBottom"/>
            <a:pathLst>
              <a:path w="21600" h="344310">
                <a:moveTo>
                  <a:pt x="1542" y="0"/>
                </a:moveTo>
                <a:arcTo wR="1542" hR="1542" stAng="16200000" swAng="-5400000"/>
                <a:lnTo>
                  <a:pt x="0" y="342768"/>
                </a:lnTo>
                <a:arcTo wR="1542" hR="1542" stAng="10800000" swAng="-5400000"/>
                <a:lnTo>
                  <a:pt x="20058" y="344310"/>
                </a:lnTo>
                <a:arcTo wR="1542" hR="1542" stAng="5400000" swAng="-5400000"/>
                <a:lnTo>
                  <a:pt x="21600" y="1542"/>
                </a:lnTo>
                <a:arcTo wR="1542" hR="1542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867280" y="2945880"/>
            <a:ext cx="23760" cy="187560"/>
          </a:xfrm>
          <a:custGeom>
            <a:avLst/>
            <a:gdLst>
              <a:gd name="textAreaLeft" fmla="*/ 360 w 23760"/>
              <a:gd name="textAreaRight" fmla="*/ 23400 w 23760"/>
              <a:gd name="textAreaTop" fmla="*/ 360 h 187560"/>
              <a:gd name="textAreaBottom" fmla="*/ 187200 h 187560"/>
            </a:gdLst>
            <a:ahLst/>
            <a:rect l="textAreaLeft" t="textAreaTop" r="textAreaRight" b="textAreaBottom"/>
            <a:pathLst>
              <a:path w="21600" h="168287">
                <a:moveTo>
                  <a:pt x="1542" y="0"/>
                </a:moveTo>
                <a:arcTo wR="1542" hR="1542" stAng="16200000" swAng="-5400000"/>
                <a:lnTo>
                  <a:pt x="0" y="166745"/>
                </a:lnTo>
                <a:arcTo wR="1542" hR="1542" stAng="10800000" swAng="-5400000"/>
                <a:lnTo>
                  <a:pt x="20058" y="168287"/>
                </a:lnTo>
                <a:arcTo wR="1542" hR="1542" stAng="5400000" swAng="-5400000"/>
                <a:lnTo>
                  <a:pt x="21600" y="1542"/>
                </a:lnTo>
                <a:arcTo wR="1542" hR="1542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5638680" y="2057400"/>
            <a:ext cx="22320" cy="187200"/>
          </a:xfrm>
          <a:custGeom>
            <a:avLst/>
            <a:gdLst>
              <a:gd name="textAreaLeft" fmla="*/ 360 w 22320"/>
              <a:gd name="textAreaRight" fmla="*/ 21960 w 22320"/>
              <a:gd name="textAreaTop" fmla="*/ 360 h 187200"/>
              <a:gd name="textAreaBottom" fmla="*/ 186840 h 187200"/>
            </a:gdLst>
            <a:ahLst/>
            <a:rect l="textAreaLeft" t="textAreaTop" r="textAreaRight" b="textAreaBottom"/>
            <a:pathLst>
              <a:path w="21600" h="178629">
                <a:moveTo>
                  <a:pt x="1542" y="0"/>
                </a:moveTo>
                <a:arcTo wR="1542" hR="1542" stAng="16200000" swAng="-5400000"/>
                <a:lnTo>
                  <a:pt x="0" y="177087"/>
                </a:lnTo>
                <a:arcTo wR="1542" hR="1542" stAng="10800000" swAng="-5400000"/>
                <a:lnTo>
                  <a:pt x="20058" y="178629"/>
                </a:lnTo>
                <a:arcTo wR="1542" hR="1542" stAng="5400000" swAng="-5400000"/>
                <a:lnTo>
                  <a:pt x="21600" y="1542"/>
                </a:lnTo>
                <a:arcTo wR="1542" hR="1542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0800000">
            <a:off x="5638680" y="2819520"/>
            <a:ext cx="22320" cy="185760"/>
          </a:xfrm>
          <a:custGeom>
            <a:avLst/>
            <a:gdLst>
              <a:gd name="textAreaLeft" fmla="*/ 360 w 22320"/>
              <a:gd name="textAreaRight" fmla="*/ 21960 w 22320"/>
              <a:gd name="textAreaTop" fmla="*/ 360 h 185760"/>
              <a:gd name="textAreaBottom" fmla="*/ 185400 h 185760"/>
            </a:gdLst>
            <a:ahLst/>
            <a:rect l="textAreaLeft" t="textAreaTop" r="textAreaRight" b="textAreaBottom"/>
            <a:pathLst>
              <a:path w="21600" h="177257">
                <a:moveTo>
                  <a:pt x="1542" y="0"/>
                </a:moveTo>
                <a:arcTo wR="1542" hR="1542" stAng="16200000" swAng="-5400000"/>
                <a:lnTo>
                  <a:pt x="0" y="175715"/>
                </a:lnTo>
                <a:arcTo wR="1542" hR="1542" stAng="10800000" swAng="-5400000"/>
                <a:lnTo>
                  <a:pt x="20058" y="177257"/>
                </a:lnTo>
                <a:arcTo wR="1542" hR="1542" stAng="5400000" swAng="-5400000"/>
                <a:lnTo>
                  <a:pt x="21600" y="1542"/>
                </a:lnTo>
                <a:arcTo wR="1542" hR="1542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384800" y="1131840"/>
            <a:ext cx="25200" cy="5446800"/>
          </a:xfrm>
          <a:prstGeom prst="line">
            <a:avLst/>
          </a:prstGeom>
          <a:ln w="57240">
            <a:solidFill>
              <a:srgbClr val="0099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57560" y="4245120"/>
            <a:ext cx="28440" cy="217440"/>
          </a:xfrm>
          <a:custGeom>
            <a:avLst/>
            <a:gdLst>
              <a:gd name="textAreaLeft" fmla="*/ 360 w 28440"/>
              <a:gd name="textAreaRight" fmla="*/ 28080 w 28440"/>
              <a:gd name="textAreaTop" fmla="*/ 360 h 217440"/>
              <a:gd name="textAreaBottom" fmla="*/ 217080 h 217440"/>
            </a:gdLst>
            <a:ahLst/>
            <a:rect l="textAreaLeft" t="textAreaTop" r="textAreaRight" b="textAreaBottom"/>
            <a:pathLst>
              <a:path w="21600" h="163350">
                <a:moveTo>
                  <a:pt x="1200" y="0"/>
                </a:moveTo>
                <a:arcTo wR="1200" hR="1200" stAng="16200000" swAng="-5400000"/>
                <a:lnTo>
                  <a:pt x="0" y="162150"/>
                </a:lnTo>
                <a:arcTo wR="1200" hR="1200" stAng="10800000" swAng="-5400000"/>
                <a:lnTo>
                  <a:pt x="20400" y="16335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98680" y="4246560"/>
            <a:ext cx="2616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1066680"/>
            <a:ext cx="2616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917880"/>
            <a:ext cx="2616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2720" y="5040360"/>
            <a:ext cx="27000" cy="217440"/>
          </a:xfrm>
          <a:custGeom>
            <a:avLst/>
            <a:gdLst>
              <a:gd name="textAreaLeft" fmla="*/ 360 w 27000"/>
              <a:gd name="textAreaRight" fmla="*/ 26640 w 27000"/>
              <a:gd name="textAreaTop" fmla="*/ 360 h 217440"/>
              <a:gd name="textAreaBottom" fmla="*/ 217080 h 217440"/>
            </a:gdLst>
            <a:ahLst/>
            <a:rect l="textAreaLeft" t="textAreaTop" r="textAreaRight" b="textAreaBottom"/>
            <a:pathLst>
              <a:path w="21600" h="171947">
                <a:moveTo>
                  <a:pt x="1350" y="0"/>
                </a:moveTo>
                <a:arcTo wR="1350" hR="1350" stAng="16200000" swAng="-5400000"/>
                <a:lnTo>
                  <a:pt x="0" y="170597"/>
                </a:lnTo>
                <a:arcTo wR="1350" hR="1350" stAng="10800000" swAng="-5400000"/>
                <a:lnTo>
                  <a:pt x="20250" y="171947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82720" y="5435640"/>
            <a:ext cx="27000" cy="166680"/>
          </a:xfrm>
          <a:custGeom>
            <a:avLst/>
            <a:gdLst>
              <a:gd name="textAreaLeft" fmla="*/ 360 w 27000"/>
              <a:gd name="textAreaRight" fmla="*/ 26640 w 27000"/>
              <a:gd name="textAreaTop" fmla="*/ 360 h 166680"/>
              <a:gd name="textAreaBottom" fmla="*/ 166320 h 166680"/>
            </a:gdLst>
            <a:ahLst/>
            <a:rect l="textAreaLeft" t="textAreaTop" r="textAreaRight" b="textAreaBottom"/>
            <a:pathLst>
              <a:path w="21600" h="131874">
                <a:moveTo>
                  <a:pt x="1350" y="0"/>
                </a:moveTo>
                <a:arcTo wR="1350" hR="1350" stAng="16200000" swAng="-5400000"/>
                <a:lnTo>
                  <a:pt x="0" y="130524"/>
                </a:lnTo>
                <a:arcTo wR="1350" hR="1350" stAng="10800000" swAng="-5400000"/>
                <a:lnTo>
                  <a:pt x="20250" y="131874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82720" y="4648320"/>
            <a:ext cx="27000" cy="217440"/>
          </a:xfrm>
          <a:custGeom>
            <a:avLst/>
            <a:gdLst>
              <a:gd name="textAreaLeft" fmla="*/ 360 w 27000"/>
              <a:gd name="textAreaRight" fmla="*/ 26640 w 27000"/>
              <a:gd name="textAreaTop" fmla="*/ 360 h 217440"/>
              <a:gd name="textAreaBottom" fmla="*/ 217080 h 217440"/>
            </a:gdLst>
            <a:ahLst/>
            <a:rect l="textAreaLeft" t="textAreaTop" r="textAreaRight" b="textAreaBottom"/>
            <a:pathLst>
              <a:path w="21600" h="171947">
                <a:moveTo>
                  <a:pt x="1350" y="0"/>
                </a:moveTo>
                <a:arcTo wR="1350" hR="1350" stAng="16200000" swAng="-5400000"/>
                <a:lnTo>
                  <a:pt x="0" y="170597"/>
                </a:lnTo>
                <a:arcTo wR="1350" hR="1350" stAng="10800000" swAng="-5400000"/>
                <a:lnTo>
                  <a:pt x="20250" y="171947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68480" y="5040360"/>
            <a:ext cx="27000" cy="217440"/>
          </a:xfrm>
          <a:custGeom>
            <a:avLst/>
            <a:gdLst>
              <a:gd name="textAreaLeft" fmla="*/ 360 w 27000"/>
              <a:gd name="textAreaRight" fmla="*/ 26640 w 27000"/>
              <a:gd name="textAreaTop" fmla="*/ 360 h 217440"/>
              <a:gd name="textAreaBottom" fmla="*/ 217080 h 217440"/>
            </a:gdLst>
            <a:ahLst/>
            <a:rect l="textAreaLeft" t="textAreaTop" r="textAreaRight" b="textAreaBottom"/>
            <a:pathLst>
              <a:path w="21600" h="171947">
                <a:moveTo>
                  <a:pt x="1350" y="0"/>
                </a:moveTo>
                <a:arcTo wR="1350" hR="1350" stAng="16200000" swAng="-5400000"/>
                <a:lnTo>
                  <a:pt x="0" y="170597"/>
                </a:lnTo>
                <a:arcTo wR="1350" hR="1350" stAng="10800000" swAng="-5400000"/>
                <a:lnTo>
                  <a:pt x="20250" y="171947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68480" y="5433840"/>
            <a:ext cx="27000" cy="217800"/>
          </a:xfrm>
          <a:custGeom>
            <a:avLst/>
            <a:gdLst>
              <a:gd name="textAreaLeft" fmla="*/ 360 w 27000"/>
              <a:gd name="textAreaRight" fmla="*/ 26640 w 27000"/>
              <a:gd name="textAreaTop" fmla="*/ 360 h 217800"/>
              <a:gd name="textAreaBottom" fmla="*/ 217440 h 217800"/>
            </a:gdLst>
            <a:ahLst/>
            <a:rect l="textAreaLeft" t="textAreaTop" r="textAreaRight" b="textAreaBottom"/>
            <a:pathLst>
              <a:path w="21600" h="172232">
                <a:moveTo>
                  <a:pt x="1350" y="0"/>
                </a:moveTo>
                <a:arcTo wR="1350" hR="1350" stAng="16200000" swAng="-5400000"/>
                <a:lnTo>
                  <a:pt x="0" y="170882"/>
                </a:lnTo>
                <a:arcTo wR="1350" hR="1350" stAng="10800000" swAng="-5400000"/>
                <a:lnTo>
                  <a:pt x="20250" y="172232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5940360"/>
            <a:ext cx="28440" cy="446040"/>
          </a:xfrm>
          <a:custGeom>
            <a:avLst/>
            <a:gdLst>
              <a:gd name="textAreaLeft" fmla="*/ 360 w 28440"/>
              <a:gd name="textAreaRight" fmla="*/ 28080 w 28440"/>
              <a:gd name="textAreaTop" fmla="*/ 360 h 446040"/>
              <a:gd name="textAreaBottom" fmla="*/ 445680 h 446040"/>
            </a:gdLst>
            <a:ahLst/>
            <a:rect l="textAreaLeft" t="textAreaTop" r="textAreaRight" b="textAreaBottom"/>
            <a:pathLst>
              <a:path w="21600" h="334800">
                <a:moveTo>
                  <a:pt x="1200" y="0"/>
                </a:moveTo>
                <a:arcTo wR="1200" hR="1200" stAng="16200000" swAng="-5400000"/>
                <a:lnTo>
                  <a:pt x="0" y="333600"/>
                </a:lnTo>
                <a:arcTo wR="1200" hR="1200" stAng="10800000" swAng="-5400000"/>
                <a:lnTo>
                  <a:pt x="20400" y="33480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2960" y="6399360"/>
            <a:ext cx="2617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57560" y="4640400"/>
            <a:ext cx="28440" cy="217440"/>
          </a:xfrm>
          <a:custGeom>
            <a:avLst/>
            <a:gdLst>
              <a:gd name="textAreaLeft" fmla="*/ 360 w 28440"/>
              <a:gd name="textAreaRight" fmla="*/ 28080 w 28440"/>
              <a:gd name="textAreaTop" fmla="*/ 360 h 217440"/>
              <a:gd name="textAreaBottom" fmla="*/ 217080 h 217440"/>
            </a:gdLst>
            <a:ahLst/>
            <a:rect l="textAreaLeft" t="textAreaTop" r="textAreaRight" b="textAreaBottom"/>
            <a:pathLst>
              <a:path w="21600" h="163350">
                <a:moveTo>
                  <a:pt x="1200" y="0"/>
                </a:moveTo>
                <a:arcTo wR="1200" hR="1200" stAng="16200000" swAng="-5400000"/>
                <a:lnTo>
                  <a:pt x="0" y="162150"/>
                </a:lnTo>
                <a:arcTo wR="1200" hR="1200" stAng="10800000" swAng="-5400000"/>
                <a:lnTo>
                  <a:pt x="20400" y="16335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30120" y="304920"/>
            <a:ext cx="5381640" cy="657000"/>
            <a:chOff x="330120" y="304920"/>
            <a:chExt cx="5381640" cy="657000"/>
          </a:xfrm>
        </p:grpSpPr>
        <p:sp>
          <p:nvSpPr>
            <p:cNvPr id="102" name=""/>
            <p:cNvSpPr/>
            <p:nvPr/>
          </p:nvSpPr>
          <p:spPr>
            <a:xfrm>
              <a:off x="330120" y="304920"/>
              <a:ext cx="5381640" cy="657000"/>
            </a:xfrm>
            <a:prstGeom prst="roundRect">
              <a:avLst>
                <a:gd name="adj" fmla="val 241"/>
              </a:avLst>
            </a:prstGeom>
            <a:solidFill>
              <a:srgbClr val="f1f7c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4880" y="304920"/>
              <a:ext cx="5351760" cy="6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EP 1: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Gene boundaries create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based 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nd assignment, sequence overlap, clone link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040" y="4600440"/>
            <a:ext cx="2020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s do not over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ired end re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98400" y="2093760"/>
            <a:ext cx="1928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7235640" y="1139760"/>
            <a:ext cx="539640" cy="84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235640" y="2514600"/>
            <a:ext cx="53964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952880" y="3963960"/>
            <a:ext cx="3533760" cy="376200"/>
            <a:chOff x="4952880" y="3963960"/>
            <a:chExt cx="3533760" cy="376200"/>
          </a:xfrm>
        </p:grpSpPr>
        <p:sp>
          <p:nvSpPr>
            <p:cNvPr id="109" name=""/>
            <p:cNvSpPr/>
            <p:nvPr/>
          </p:nvSpPr>
          <p:spPr>
            <a:xfrm>
              <a:off x="4952880" y="3963960"/>
              <a:ext cx="3533760" cy="376200"/>
            </a:xfrm>
            <a:prstGeom prst="roundRect">
              <a:avLst>
                <a:gd name="adj" fmla="val 4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61880" y="3963960"/>
              <a:ext cx="35154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me strand, sequences overl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69960" y="3824280"/>
            <a:ext cx="1501920" cy="376200"/>
            <a:chOff x="669960" y="3824280"/>
            <a:chExt cx="1501920" cy="376200"/>
          </a:xfrm>
        </p:grpSpPr>
        <p:sp>
          <p:nvSpPr>
            <p:cNvPr id="112" name=""/>
            <p:cNvSpPr/>
            <p:nvPr/>
          </p:nvSpPr>
          <p:spPr>
            <a:xfrm>
              <a:off x="669960" y="3824280"/>
              <a:ext cx="1501920" cy="376200"/>
            </a:xfrm>
            <a:prstGeom prst="roundRect">
              <a:avLst>
                <a:gd name="adj" fmla="val 4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8960" y="3824280"/>
              <a:ext cx="14839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ne link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flipV="1">
            <a:off x="1523880" y="4416480"/>
            <a:ext cx="533520" cy="23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5257800"/>
            <a:ext cx="99036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1676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838080"/>
            <a:ext cx="5105520" cy="5334120"/>
          </a:xfrm>
          <a:custGeom>
            <a:avLst/>
            <a:gdLst>
              <a:gd name="textAreaLeft" fmla="*/ 720 w 5105520"/>
              <a:gd name="textAreaRight" fmla="*/ 5104800 w 5105520"/>
              <a:gd name="textAreaTop" fmla="*/ 720 h 5334120"/>
              <a:gd name="textAreaBottom" fmla="*/ 5333400 h 5334120"/>
            </a:gdLst>
            <a:ahLst/>
            <a:rect l="textAreaLeft" t="textAreaTop" r="textAreaRight" b="textAreaBottom"/>
            <a:pathLst>
              <a:path w="21600" h="22567">
                <a:moveTo>
                  <a:pt x="13" y="0"/>
                </a:moveTo>
                <a:arcTo wR="13" hR="13" stAng="16200000" swAng="-5400000"/>
                <a:lnTo>
                  <a:pt x="0" y="22554"/>
                </a:lnTo>
                <a:arcTo wR="13" hR="13" stAng="10800000" swAng="-5400000"/>
                <a:lnTo>
                  <a:pt x="21587" y="22567"/>
                </a:lnTo>
                <a:arcTo wR="13" hR="13" stAng="5400000" swAng="-5400000"/>
                <a:lnTo>
                  <a:pt x="21600" y="13"/>
                </a:lnTo>
                <a:arcTo wR="13" hR="1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1200" y="492768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96920" y="431784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25520" y="2946240"/>
            <a:ext cx="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33680" y="485136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11320" y="1727280"/>
            <a:ext cx="180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39920" y="3556080"/>
            <a:ext cx="18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355608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51120" y="233676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32280" y="1727280"/>
            <a:ext cx="14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1680" y="4317840"/>
            <a:ext cx="18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60680" y="2413080"/>
            <a:ext cx="180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76680" y="1650960"/>
            <a:ext cx="144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87720" y="1650960"/>
            <a:ext cx="180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45120" y="3556080"/>
            <a:ext cx="144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40240" y="233676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80000" y="1650960"/>
            <a:ext cx="144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17960" y="1650960"/>
            <a:ext cx="180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35400" y="1727280"/>
            <a:ext cx="180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22960" y="1727280"/>
            <a:ext cx="144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98880" y="1400040"/>
            <a:ext cx="39960" cy="320760"/>
          </a:xfrm>
          <a:custGeom>
            <a:avLst/>
            <a:gdLst>
              <a:gd name="textAreaLeft" fmla="*/ 360 w 39960"/>
              <a:gd name="textAreaRight" fmla="*/ 39600 w 3996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2029">
                <a:moveTo>
                  <a:pt x="900" y="0"/>
                </a:moveTo>
                <a:arcTo wR="900" hR="900" stAng="16200000" swAng="-5400000"/>
                <a:lnTo>
                  <a:pt x="0" y="171129"/>
                </a:lnTo>
                <a:arcTo wR="900" hR="900" stAng="10800000" swAng="-5400000"/>
                <a:lnTo>
                  <a:pt x="20700" y="172029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59480" y="140004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59480" y="212076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98880" y="2120760"/>
            <a:ext cx="39960" cy="320760"/>
          </a:xfrm>
          <a:custGeom>
            <a:avLst/>
            <a:gdLst>
              <a:gd name="textAreaLeft" fmla="*/ 360 w 39960"/>
              <a:gd name="textAreaRight" fmla="*/ 39600 w 3996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2029">
                <a:moveTo>
                  <a:pt x="900" y="0"/>
                </a:moveTo>
                <a:arcTo wR="900" hR="900" stAng="16200000" swAng="-5400000"/>
                <a:lnTo>
                  <a:pt x="0" y="171129"/>
                </a:lnTo>
                <a:arcTo wR="900" hR="900" stAng="10800000" swAng="-5400000"/>
                <a:lnTo>
                  <a:pt x="20700" y="172029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59480" y="270360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98880" y="2703600"/>
            <a:ext cx="39960" cy="320760"/>
          </a:xfrm>
          <a:custGeom>
            <a:avLst/>
            <a:gdLst>
              <a:gd name="textAreaLeft" fmla="*/ 360 w 39960"/>
              <a:gd name="textAreaRight" fmla="*/ 39600 w 3996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2029">
                <a:moveTo>
                  <a:pt x="900" y="0"/>
                </a:moveTo>
                <a:arcTo wR="900" hR="900" stAng="16200000" swAng="-5400000"/>
                <a:lnTo>
                  <a:pt x="0" y="171129"/>
                </a:lnTo>
                <a:arcTo wR="900" hR="900" stAng="10800000" swAng="-5400000"/>
                <a:lnTo>
                  <a:pt x="20700" y="172029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98880" y="3284640"/>
            <a:ext cx="39960" cy="320400"/>
          </a:xfrm>
          <a:custGeom>
            <a:avLst/>
            <a:gdLst>
              <a:gd name="textAreaLeft" fmla="*/ 360 w 39960"/>
              <a:gd name="textAreaRight" fmla="*/ 39600 w 3996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1836">
                <a:moveTo>
                  <a:pt x="900" y="0"/>
                </a:moveTo>
                <a:arcTo wR="900" hR="900" stAng="16200000" swAng="-5400000"/>
                <a:lnTo>
                  <a:pt x="0" y="170936"/>
                </a:lnTo>
                <a:arcTo wR="900" hR="900" stAng="10800000" swAng="-5400000"/>
                <a:lnTo>
                  <a:pt x="20700" y="17183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59480" y="4005360"/>
            <a:ext cx="39600" cy="32040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3384">
                <a:moveTo>
                  <a:pt x="900" y="0"/>
                </a:moveTo>
                <a:arcTo wR="900" hR="900" stAng="16200000" swAng="-5400000"/>
                <a:lnTo>
                  <a:pt x="0" y="172484"/>
                </a:lnTo>
                <a:arcTo wR="900" hR="900" stAng="10800000" swAng="-5400000"/>
                <a:lnTo>
                  <a:pt x="20700" y="17338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98880" y="4005360"/>
            <a:ext cx="39960" cy="320400"/>
          </a:xfrm>
          <a:custGeom>
            <a:avLst/>
            <a:gdLst>
              <a:gd name="textAreaLeft" fmla="*/ 360 w 39960"/>
              <a:gd name="textAreaRight" fmla="*/ 39600 w 3996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1836">
                <a:moveTo>
                  <a:pt x="900" y="0"/>
                </a:moveTo>
                <a:arcTo wR="900" hR="900" stAng="16200000" swAng="-5400000"/>
                <a:lnTo>
                  <a:pt x="0" y="170936"/>
                </a:lnTo>
                <a:arcTo wR="900" hR="900" stAng="10800000" swAng="-5400000"/>
                <a:lnTo>
                  <a:pt x="20700" y="17183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59480" y="464184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98880" y="4641840"/>
            <a:ext cx="39960" cy="320760"/>
          </a:xfrm>
          <a:custGeom>
            <a:avLst/>
            <a:gdLst>
              <a:gd name="textAreaLeft" fmla="*/ 360 w 39960"/>
              <a:gd name="textAreaRight" fmla="*/ 39600 w 3996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2029">
                <a:moveTo>
                  <a:pt x="900" y="0"/>
                </a:moveTo>
                <a:arcTo wR="900" hR="900" stAng="16200000" swAng="-5400000"/>
                <a:lnTo>
                  <a:pt x="0" y="171129"/>
                </a:lnTo>
                <a:arcTo wR="900" hR="900" stAng="10800000" swAng="-5400000"/>
                <a:lnTo>
                  <a:pt x="20700" y="172029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21160" y="4005360"/>
            <a:ext cx="39600" cy="32040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3384">
                <a:moveTo>
                  <a:pt x="900" y="0"/>
                </a:moveTo>
                <a:arcTo wR="900" hR="900" stAng="16200000" swAng="-5400000"/>
                <a:lnTo>
                  <a:pt x="0" y="172484"/>
                </a:lnTo>
                <a:arcTo wR="900" hR="900" stAng="10800000" swAng="-5400000"/>
                <a:lnTo>
                  <a:pt x="20700" y="17338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21160" y="3284640"/>
            <a:ext cx="39600" cy="32040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3384">
                <a:moveTo>
                  <a:pt x="900" y="0"/>
                </a:moveTo>
                <a:arcTo wR="900" hR="900" stAng="16200000" swAng="-5400000"/>
                <a:lnTo>
                  <a:pt x="0" y="172484"/>
                </a:lnTo>
                <a:arcTo wR="900" hR="900" stAng="10800000" swAng="-5400000"/>
                <a:lnTo>
                  <a:pt x="20700" y="17338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21160" y="212076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24240" y="4641840"/>
            <a:ext cx="39960" cy="320760"/>
          </a:xfrm>
          <a:custGeom>
            <a:avLst/>
            <a:gdLst>
              <a:gd name="textAreaLeft" fmla="*/ 360 w 39960"/>
              <a:gd name="textAreaRight" fmla="*/ 39600 w 3996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2029">
                <a:moveTo>
                  <a:pt x="900" y="0"/>
                </a:moveTo>
                <a:arcTo wR="900" hR="900" stAng="16200000" swAng="-5400000"/>
                <a:lnTo>
                  <a:pt x="0" y="171129"/>
                </a:lnTo>
                <a:arcTo wR="900" hR="900" stAng="10800000" swAng="-5400000"/>
                <a:lnTo>
                  <a:pt x="20700" y="172029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24240" y="4005360"/>
            <a:ext cx="39960" cy="320400"/>
          </a:xfrm>
          <a:custGeom>
            <a:avLst/>
            <a:gdLst>
              <a:gd name="textAreaLeft" fmla="*/ 360 w 39960"/>
              <a:gd name="textAreaRight" fmla="*/ 39600 w 3996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1836">
                <a:moveTo>
                  <a:pt x="900" y="0"/>
                </a:moveTo>
                <a:arcTo wR="900" hR="900" stAng="16200000" swAng="-5400000"/>
                <a:lnTo>
                  <a:pt x="0" y="170936"/>
                </a:lnTo>
                <a:arcTo wR="900" hR="900" stAng="10800000" swAng="-5400000"/>
                <a:lnTo>
                  <a:pt x="20700" y="17183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8640" y="4641840"/>
            <a:ext cx="39960" cy="320760"/>
          </a:xfrm>
          <a:custGeom>
            <a:avLst/>
            <a:gdLst>
              <a:gd name="textAreaLeft" fmla="*/ 360 w 39960"/>
              <a:gd name="textAreaRight" fmla="*/ 39600 w 3996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2029">
                <a:moveTo>
                  <a:pt x="900" y="0"/>
                </a:moveTo>
                <a:arcTo wR="900" hR="900" stAng="16200000" swAng="-5400000"/>
                <a:lnTo>
                  <a:pt x="0" y="171129"/>
                </a:lnTo>
                <a:arcTo wR="900" hR="900" stAng="10800000" swAng="-5400000"/>
                <a:lnTo>
                  <a:pt x="20700" y="172029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24240" y="3284640"/>
            <a:ext cx="39960" cy="320400"/>
          </a:xfrm>
          <a:custGeom>
            <a:avLst/>
            <a:gdLst>
              <a:gd name="textAreaLeft" fmla="*/ 360 w 39960"/>
              <a:gd name="textAreaRight" fmla="*/ 39600 w 3996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1836">
                <a:moveTo>
                  <a:pt x="900" y="0"/>
                </a:moveTo>
                <a:arcTo wR="900" hR="900" stAng="16200000" swAng="-5400000"/>
                <a:lnTo>
                  <a:pt x="0" y="170936"/>
                </a:lnTo>
                <a:arcTo wR="900" hR="900" stAng="10800000" swAng="-5400000"/>
                <a:lnTo>
                  <a:pt x="20700" y="17183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8640" y="4005360"/>
            <a:ext cx="39960" cy="320400"/>
          </a:xfrm>
          <a:custGeom>
            <a:avLst/>
            <a:gdLst>
              <a:gd name="textAreaLeft" fmla="*/ 360 w 39960"/>
              <a:gd name="textAreaRight" fmla="*/ 39600 w 3996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1836">
                <a:moveTo>
                  <a:pt x="900" y="0"/>
                </a:moveTo>
                <a:arcTo wR="900" hR="900" stAng="16200000" swAng="-5400000"/>
                <a:lnTo>
                  <a:pt x="0" y="170936"/>
                </a:lnTo>
                <a:arcTo wR="900" hR="900" stAng="10800000" swAng="-5400000"/>
                <a:lnTo>
                  <a:pt x="20700" y="17183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8640" y="2703600"/>
            <a:ext cx="39960" cy="320760"/>
          </a:xfrm>
          <a:custGeom>
            <a:avLst/>
            <a:gdLst>
              <a:gd name="textAreaLeft" fmla="*/ 360 w 39960"/>
              <a:gd name="textAreaRight" fmla="*/ 39600 w 3996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2029">
                <a:moveTo>
                  <a:pt x="900" y="0"/>
                </a:moveTo>
                <a:arcTo wR="900" hR="900" stAng="16200000" swAng="-5400000"/>
                <a:lnTo>
                  <a:pt x="0" y="171129"/>
                </a:lnTo>
                <a:arcTo wR="900" hR="900" stAng="10800000" swAng="-5400000"/>
                <a:lnTo>
                  <a:pt x="20700" y="172029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8640" y="1400040"/>
            <a:ext cx="39960" cy="320760"/>
          </a:xfrm>
          <a:custGeom>
            <a:avLst/>
            <a:gdLst>
              <a:gd name="textAreaLeft" fmla="*/ 360 w 39960"/>
              <a:gd name="textAreaRight" fmla="*/ 39600 w 3996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2029">
                <a:moveTo>
                  <a:pt x="900" y="0"/>
                </a:moveTo>
                <a:arcTo wR="900" hR="900" stAng="16200000" swAng="-5400000"/>
                <a:lnTo>
                  <a:pt x="0" y="171129"/>
                </a:lnTo>
                <a:arcTo wR="900" hR="900" stAng="10800000" swAng="-5400000"/>
                <a:lnTo>
                  <a:pt x="20700" y="172029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98880" y="5181480"/>
            <a:ext cx="39960" cy="711360"/>
          </a:xfrm>
          <a:custGeom>
            <a:avLst/>
            <a:gdLst>
              <a:gd name="textAreaLeft" fmla="*/ 360 w 39960"/>
              <a:gd name="textAreaRight" fmla="*/ 39600 w 39960"/>
              <a:gd name="textAreaTop" fmla="*/ 360 h 711360"/>
              <a:gd name="textAreaBottom" fmla="*/ 711000 h 711360"/>
            </a:gdLst>
            <a:ahLst/>
            <a:rect l="textAreaLeft" t="textAreaTop" r="textAreaRight" b="textAreaBottom"/>
            <a:pathLst>
              <a:path w="21600" h="381279">
                <a:moveTo>
                  <a:pt x="900" y="0"/>
                </a:moveTo>
                <a:arcTo wR="900" hR="900" stAng="16200000" swAng="-5400000"/>
                <a:lnTo>
                  <a:pt x="0" y="380379"/>
                </a:lnTo>
                <a:arcTo wR="900" hR="900" stAng="10800000" swAng="-5400000"/>
                <a:lnTo>
                  <a:pt x="20700" y="381279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59480" y="5181480"/>
            <a:ext cx="39600" cy="777960"/>
          </a:xfrm>
          <a:custGeom>
            <a:avLst/>
            <a:gdLst>
              <a:gd name="textAreaLeft" fmla="*/ 360 w 39600"/>
              <a:gd name="textAreaRight" fmla="*/ 39240 w 39600"/>
              <a:gd name="textAreaTop" fmla="*/ 360 h 777960"/>
              <a:gd name="textAreaBottom" fmla="*/ 777600 h 777960"/>
            </a:gdLst>
            <a:ahLst/>
            <a:rect l="textAreaLeft" t="textAreaTop" r="textAreaRight" b="textAreaBottom"/>
            <a:pathLst>
              <a:path w="21600" h="420714">
                <a:moveTo>
                  <a:pt x="900" y="0"/>
                </a:moveTo>
                <a:arcTo wR="900" hR="900" stAng="16200000" swAng="-5400000"/>
                <a:lnTo>
                  <a:pt x="0" y="419814"/>
                </a:lnTo>
                <a:arcTo wR="900" hR="900" stAng="10800000" swAng="-5400000"/>
                <a:lnTo>
                  <a:pt x="20700" y="42071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14880" y="140004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14880" y="212076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14880" y="270360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4880" y="3284640"/>
            <a:ext cx="39600" cy="32040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3384">
                <a:moveTo>
                  <a:pt x="900" y="0"/>
                </a:moveTo>
                <a:arcTo wR="900" hR="900" stAng="16200000" swAng="-5400000"/>
                <a:lnTo>
                  <a:pt x="0" y="172484"/>
                </a:lnTo>
                <a:arcTo wR="900" hR="900" stAng="10800000" swAng="-5400000"/>
                <a:lnTo>
                  <a:pt x="20700" y="17338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14880" y="4005360"/>
            <a:ext cx="39600" cy="32040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3384">
                <a:moveTo>
                  <a:pt x="900" y="0"/>
                </a:moveTo>
                <a:arcTo wR="900" hR="900" stAng="16200000" swAng="-5400000"/>
                <a:lnTo>
                  <a:pt x="0" y="172484"/>
                </a:lnTo>
                <a:arcTo wR="900" hR="900" stAng="10800000" swAng="-5400000"/>
                <a:lnTo>
                  <a:pt x="20700" y="17338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14880" y="464184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14880" y="5181480"/>
            <a:ext cx="39600" cy="522360"/>
          </a:xfrm>
          <a:custGeom>
            <a:avLst/>
            <a:gdLst>
              <a:gd name="textAreaLeft" fmla="*/ 360 w 39600"/>
              <a:gd name="textAreaRight" fmla="*/ 39240 w 39600"/>
              <a:gd name="textAreaTop" fmla="*/ 360 h 522360"/>
              <a:gd name="textAreaBottom" fmla="*/ 522000 h 522360"/>
            </a:gdLst>
            <a:ahLst/>
            <a:rect l="textAreaLeft" t="textAreaTop" r="textAreaRight" b="textAreaBottom"/>
            <a:pathLst>
              <a:path w="21600" h="282551">
                <a:moveTo>
                  <a:pt x="900" y="0"/>
                </a:moveTo>
                <a:arcTo wR="900" hR="900" stAng="16200000" swAng="-5400000"/>
                <a:lnTo>
                  <a:pt x="0" y="281651"/>
                </a:lnTo>
                <a:arcTo wR="900" hR="900" stAng="10800000" swAng="-5400000"/>
                <a:lnTo>
                  <a:pt x="20700" y="282551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140004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2703600"/>
            <a:ext cx="41400" cy="320760"/>
          </a:xfrm>
          <a:custGeom>
            <a:avLst/>
            <a:gdLst>
              <a:gd name="textAreaLeft" fmla="*/ 360 w 41400"/>
              <a:gd name="textAreaRight" fmla="*/ 41040 w 414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66097">
                <a:moveTo>
                  <a:pt x="830" y="0"/>
                </a:moveTo>
                <a:arcTo wR="830" hR="830" stAng="16200000" swAng="-5400000"/>
                <a:lnTo>
                  <a:pt x="0" y="165267"/>
                </a:lnTo>
                <a:arcTo wR="830" hR="830" stAng="10800000" swAng="-5400000"/>
                <a:lnTo>
                  <a:pt x="20770" y="166097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4005360"/>
            <a:ext cx="41400" cy="320400"/>
          </a:xfrm>
          <a:custGeom>
            <a:avLst/>
            <a:gdLst>
              <a:gd name="textAreaLeft" fmla="*/ 360 w 41400"/>
              <a:gd name="textAreaRight" fmla="*/ 41040 w 4140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65910">
                <a:moveTo>
                  <a:pt x="830" y="0"/>
                </a:moveTo>
                <a:arcTo wR="830" hR="830" stAng="16200000" swAng="-5400000"/>
                <a:lnTo>
                  <a:pt x="0" y="165080"/>
                </a:lnTo>
                <a:arcTo wR="830" hR="830" stAng="10800000" swAng="-5400000"/>
                <a:lnTo>
                  <a:pt x="20770" y="165910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3284640"/>
            <a:ext cx="41400" cy="320400"/>
          </a:xfrm>
          <a:custGeom>
            <a:avLst/>
            <a:gdLst>
              <a:gd name="textAreaLeft" fmla="*/ 360 w 41400"/>
              <a:gd name="textAreaRight" fmla="*/ 41040 w 4140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65910">
                <a:moveTo>
                  <a:pt x="830" y="0"/>
                </a:moveTo>
                <a:arcTo wR="830" hR="830" stAng="16200000" swAng="-5400000"/>
                <a:lnTo>
                  <a:pt x="0" y="165080"/>
                </a:lnTo>
                <a:arcTo wR="830" hR="830" stAng="10800000" swAng="-5400000"/>
                <a:lnTo>
                  <a:pt x="20770" y="165910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2120760"/>
            <a:ext cx="41400" cy="320760"/>
          </a:xfrm>
          <a:custGeom>
            <a:avLst/>
            <a:gdLst>
              <a:gd name="textAreaLeft" fmla="*/ 360 w 41400"/>
              <a:gd name="textAreaRight" fmla="*/ 41040 w 414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66097">
                <a:moveTo>
                  <a:pt x="830" y="0"/>
                </a:moveTo>
                <a:arcTo wR="830" hR="830" stAng="16200000" swAng="-5400000"/>
                <a:lnTo>
                  <a:pt x="0" y="165267"/>
                </a:lnTo>
                <a:arcTo wR="830" hR="830" stAng="10800000" swAng="-5400000"/>
                <a:lnTo>
                  <a:pt x="20770" y="166097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41600" y="4641840"/>
            <a:ext cx="39960" cy="320760"/>
          </a:xfrm>
          <a:custGeom>
            <a:avLst/>
            <a:gdLst>
              <a:gd name="textAreaLeft" fmla="*/ 360 w 39960"/>
              <a:gd name="textAreaRight" fmla="*/ 39600 w 3996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2029">
                <a:moveTo>
                  <a:pt x="900" y="0"/>
                </a:moveTo>
                <a:arcTo wR="900" hR="900" stAng="16200000" swAng="-5400000"/>
                <a:lnTo>
                  <a:pt x="0" y="171129"/>
                </a:lnTo>
                <a:arcTo wR="900" hR="900" stAng="10800000" swAng="-5400000"/>
                <a:lnTo>
                  <a:pt x="20700" y="172029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41600" y="4005360"/>
            <a:ext cx="39960" cy="320400"/>
          </a:xfrm>
          <a:custGeom>
            <a:avLst/>
            <a:gdLst>
              <a:gd name="textAreaLeft" fmla="*/ 360 w 39960"/>
              <a:gd name="textAreaRight" fmla="*/ 39600 w 3996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1836">
                <a:moveTo>
                  <a:pt x="900" y="0"/>
                </a:moveTo>
                <a:arcTo wR="900" hR="900" stAng="16200000" swAng="-5400000"/>
                <a:lnTo>
                  <a:pt x="0" y="170936"/>
                </a:lnTo>
                <a:arcTo wR="900" hR="900" stAng="10800000" swAng="-5400000"/>
                <a:lnTo>
                  <a:pt x="20700" y="17183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41600" y="3284640"/>
            <a:ext cx="39960" cy="320400"/>
          </a:xfrm>
          <a:custGeom>
            <a:avLst/>
            <a:gdLst>
              <a:gd name="textAreaLeft" fmla="*/ 360 w 39960"/>
              <a:gd name="textAreaRight" fmla="*/ 39600 w 3996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1836">
                <a:moveTo>
                  <a:pt x="900" y="0"/>
                </a:moveTo>
                <a:arcTo wR="900" hR="900" stAng="16200000" swAng="-5400000"/>
                <a:lnTo>
                  <a:pt x="0" y="170936"/>
                </a:lnTo>
                <a:arcTo wR="900" hR="900" stAng="10800000" swAng="-5400000"/>
                <a:lnTo>
                  <a:pt x="20700" y="171836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41600" y="2120760"/>
            <a:ext cx="41400" cy="320760"/>
          </a:xfrm>
          <a:custGeom>
            <a:avLst/>
            <a:gdLst>
              <a:gd name="textAreaLeft" fmla="*/ 360 w 41400"/>
              <a:gd name="textAreaRight" fmla="*/ 41040 w 414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66097">
                <a:moveTo>
                  <a:pt x="830" y="0"/>
                </a:moveTo>
                <a:arcTo wR="830" hR="830" stAng="16200000" swAng="-5400000"/>
                <a:lnTo>
                  <a:pt x="0" y="165267"/>
                </a:lnTo>
                <a:arcTo wR="830" hR="830" stAng="10800000" swAng="-5400000"/>
                <a:lnTo>
                  <a:pt x="20770" y="166097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51160" y="464184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51160" y="4005360"/>
            <a:ext cx="39600" cy="32040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3384">
                <a:moveTo>
                  <a:pt x="900" y="0"/>
                </a:moveTo>
                <a:arcTo wR="900" hR="900" stAng="16200000" swAng="-5400000"/>
                <a:lnTo>
                  <a:pt x="0" y="172484"/>
                </a:lnTo>
                <a:arcTo wR="900" hR="900" stAng="10800000" swAng="-5400000"/>
                <a:lnTo>
                  <a:pt x="20700" y="17338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51160" y="5181480"/>
            <a:ext cx="39600" cy="657360"/>
          </a:xfrm>
          <a:custGeom>
            <a:avLst/>
            <a:gdLst>
              <a:gd name="textAreaLeft" fmla="*/ 360 w 39600"/>
              <a:gd name="textAreaRight" fmla="*/ 39240 w 39600"/>
              <a:gd name="textAreaTop" fmla="*/ 360 h 657360"/>
              <a:gd name="textAreaBottom" fmla="*/ 657000 h 657360"/>
            </a:gdLst>
            <a:ahLst/>
            <a:rect l="textAreaLeft" t="textAreaTop" r="textAreaRight" b="textAreaBottom"/>
            <a:pathLst>
              <a:path w="21600" h="355524">
                <a:moveTo>
                  <a:pt x="900" y="0"/>
                </a:moveTo>
                <a:arcTo wR="900" hR="900" stAng="16200000" swAng="-5400000"/>
                <a:lnTo>
                  <a:pt x="0" y="354624"/>
                </a:lnTo>
                <a:arcTo wR="900" hR="900" stAng="10800000" swAng="-5400000"/>
                <a:lnTo>
                  <a:pt x="20700" y="35552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20840" y="464184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20840" y="4005360"/>
            <a:ext cx="39600" cy="32040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3384">
                <a:moveTo>
                  <a:pt x="900" y="0"/>
                </a:moveTo>
                <a:arcTo wR="900" hR="900" stAng="16200000" swAng="-5400000"/>
                <a:lnTo>
                  <a:pt x="0" y="172484"/>
                </a:lnTo>
                <a:arcTo wR="900" hR="900" stAng="10800000" swAng="-5400000"/>
                <a:lnTo>
                  <a:pt x="20700" y="17338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20840" y="5181480"/>
            <a:ext cx="39600" cy="657360"/>
          </a:xfrm>
          <a:custGeom>
            <a:avLst/>
            <a:gdLst>
              <a:gd name="textAreaLeft" fmla="*/ 360 w 39600"/>
              <a:gd name="textAreaRight" fmla="*/ 39240 w 39600"/>
              <a:gd name="textAreaTop" fmla="*/ 360 h 657360"/>
              <a:gd name="textAreaBottom" fmla="*/ 657000 h 657360"/>
            </a:gdLst>
            <a:ahLst/>
            <a:rect l="textAreaLeft" t="textAreaTop" r="textAreaRight" b="textAreaBottom"/>
            <a:pathLst>
              <a:path w="21600" h="355524">
                <a:moveTo>
                  <a:pt x="900" y="0"/>
                </a:moveTo>
                <a:arcTo wR="900" hR="900" stAng="16200000" swAng="-5400000"/>
                <a:lnTo>
                  <a:pt x="0" y="354624"/>
                </a:lnTo>
                <a:arcTo wR="900" hR="900" stAng="10800000" swAng="-5400000"/>
                <a:lnTo>
                  <a:pt x="20700" y="35552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20840" y="328608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95520" y="464184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95520" y="5181480"/>
            <a:ext cx="39600" cy="368280"/>
          </a:xfrm>
          <a:custGeom>
            <a:avLst/>
            <a:gdLst>
              <a:gd name="textAreaLeft" fmla="*/ 360 w 39600"/>
              <a:gd name="textAreaRight" fmla="*/ 39240 w 39600"/>
              <a:gd name="textAreaTop" fmla="*/ 360 h 368280"/>
              <a:gd name="textAreaBottom" fmla="*/ 367920 h 368280"/>
            </a:gdLst>
            <a:ahLst/>
            <a:rect l="textAreaLeft" t="textAreaTop" r="textAreaRight" b="textAreaBottom"/>
            <a:pathLst>
              <a:path w="21600" h="199265">
                <a:moveTo>
                  <a:pt x="900" y="0"/>
                </a:moveTo>
                <a:arcTo wR="900" hR="900" stAng="16200000" swAng="-5400000"/>
                <a:lnTo>
                  <a:pt x="0" y="198365"/>
                </a:lnTo>
                <a:arcTo wR="900" hR="900" stAng="10800000" swAng="-5400000"/>
                <a:lnTo>
                  <a:pt x="20700" y="199265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95520" y="4005360"/>
            <a:ext cx="39600" cy="32040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3384">
                <a:moveTo>
                  <a:pt x="900" y="0"/>
                </a:moveTo>
                <a:arcTo wR="900" hR="900" stAng="16200000" swAng="-5400000"/>
                <a:lnTo>
                  <a:pt x="0" y="172484"/>
                </a:lnTo>
                <a:arcTo wR="900" hR="900" stAng="10800000" swAng="-5400000"/>
                <a:lnTo>
                  <a:pt x="20700" y="17338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94080" y="328608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2040" y="4005360"/>
            <a:ext cx="39600" cy="226800"/>
          </a:xfrm>
          <a:custGeom>
            <a:avLst/>
            <a:gdLst>
              <a:gd name="textAreaLeft" fmla="*/ 360 w 39600"/>
              <a:gd name="textAreaRight" fmla="*/ 39240 w 39600"/>
              <a:gd name="textAreaTop" fmla="*/ 360 h 226800"/>
              <a:gd name="textAreaBottom" fmla="*/ 226440 h 226800"/>
            </a:gdLst>
            <a:ahLst/>
            <a:rect l="textAreaLeft" t="textAreaTop" r="textAreaRight" b="textAreaBottom"/>
            <a:pathLst>
              <a:path w="21600" h="122789">
                <a:moveTo>
                  <a:pt x="900" y="0"/>
                </a:moveTo>
                <a:arcTo wR="900" hR="900" stAng="16200000" swAng="-5400000"/>
                <a:lnTo>
                  <a:pt x="0" y="121889"/>
                </a:lnTo>
                <a:arcTo wR="900" hR="900" stAng="10800000" swAng="-5400000"/>
                <a:lnTo>
                  <a:pt x="20700" y="122789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32040" y="3284640"/>
            <a:ext cx="39600" cy="32040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3384">
                <a:moveTo>
                  <a:pt x="900" y="0"/>
                </a:moveTo>
                <a:arcTo wR="900" hR="900" stAng="16200000" swAng="-5400000"/>
                <a:lnTo>
                  <a:pt x="0" y="172484"/>
                </a:lnTo>
                <a:arcTo wR="900" hR="900" stAng="10800000" swAng="-5400000"/>
                <a:lnTo>
                  <a:pt x="20700" y="17338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30600" y="2120760"/>
            <a:ext cx="41040" cy="320760"/>
          </a:xfrm>
          <a:custGeom>
            <a:avLst/>
            <a:gdLst>
              <a:gd name="textAreaLeft" fmla="*/ 360 w 41040"/>
              <a:gd name="textAreaRight" fmla="*/ 40680 w 4104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67541">
                <a:moveTo>
                  <a:pt x="830" y="0"/>
                </a:moveTo>
                <a:arcTo wR="830" hR="830" stAng="16200000" swAng="-5400000"/>
                <a:lnTo>
                  <a:pt x="0" y="166711"/>
                </a:lnTo>
                <a:arcTo wR="830" hR="830" stAng="10800000" swAng="-5400000"/>
                <a:lnTo>
                  <a:pt x="20770" y="167541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11400" y="140184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11400" y="2703600"/>
            <a:ext cx="41400" cy="320760"/>
          </a:xfrm>
          <a:custGeom>
            <a:avLst/>
            <a:gdLst>
              <a:gd name="textAreaLeft" fmla="*/ 360 w 41400"/>
              <a:gd name="textAreaRight" fmla="*/ 41040 w 414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66097">
                <a:moveTo>
                  <a:pt x="830" y="0"/>
                </a:moveTo>
                <a:arcTo wR="830" hR="830" stAng="16200000" swAng="-5400000"/>
                <a:lnTo>
                  <a:pt x="0" y="165267"/>
                </a:lnTo>
                <a:arcTo wR="830" hR="830" stAng="10800000" swAng="-5400000"/>
                <a:lnTo>
                  <a:pt x="20770" y="166097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11400" y="3284640"/>
            <a:ext cx="41400" cy="247680"/>
          </a:xfrm>
          <a:custGeom>
            <a:avLst/>
            <a:gdLst>
              <a:gd name="textAreaLeft" fmla="*/ 360 w 41400"/>
              <a:gd name="textAreaRight" fmla="*/ 41040 w 41400"/>
              <a:gd name="textAreaTop" fmla="*/ 360 h 247680"/>
              <a:gd name="textAreaBottom" fmla="*/ 247320 h 247680"/>
            </a:gdLst>
            <a:ahLst/>
            <a:rect l="textAreaLeft" t="textAreaTop" r="textAreaRight" b="textAreaBottom"/>
            <a:pathLst>
              <a:path w="21600" h="128297">
                <a:moveTo>
                  <a:pt x="830" y="0"/>
                </a:moveTo>
                <a:arcTo wR="830" hR="830" stAng="16200000" swAng="-5400000"/>
                <a:lnTo>
                  <a:pt x="0" y="127467"/>
                </a:lnTo>
                <a:arcTo wR="830" hR="830" stAng="10800000" swAng="-5400000"/>
                <a:lnTo>
                  <a:pt x="20770" y="128297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11400" y="2122560"/>
            <a:ext cx="41400" cy="320760"/>
          </a:xfrm>
          <a:custGeom>
            <a:avLst/>
            <a:gdLst>
              <a:gd name="textAreaLeft" fmla="*/ 360 w 41400"/>
              <a:gd name="textAreaRight" fmla="*/ 41040 w 414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66097">
                <a:moveTo>
                  <a:pt x="830" y="0"/>
                </a:moveTo>
                <a:arcTo wR="830" hR="830" stAng="16200000" swAng="-5400000"/>
                <a:lnTo>
                  <a:pt x="0" y="165267"/>
                </a:lnTo>
                <a:arcTo wR="830" hR="830" stAng="10800000" swAng="-5400000"/>
                <a:lnTo>
                  <a:pt x="20770" y="166097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92240" y="140184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90800" y="2703600"/>
            <a:ext cx="41040" cy="320760"/>
          </a:xfrm>
          <a:custGeom>
            <a:avLst/>
            <a:gdLst>
              <a:gd name="textAreaLeft" fmla="*/ 360 w 41040"/>
              <a:gd name="textAreaRight" fmla="*/ 40680 w 4104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67541">
                <a:moveTo>
                  <a:pt x="830" y="0"/>
                </a:moveTo>
                <a:arcTo wR="830" hR="830" stAng="16200000" swAng="-5400000"/>
                <a:lnTo>
                  <a:pt x="0" y="166711"/>
                </a:lnTo>
                <a:arcTo wR="830" hR="830" stAng="10800000" swAng="-5400000"/>
                <a:lnTo>
                  <a:pt x="20770" y="167541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90800" y="4005360"/>
            <a:ext cx="41040" cy="239760"/>
          </a:xfrm>
          <a:custGeom>
            <a:avLst/>
            <a:gdLst>
              <a:gd name="textAreaLeft" fmla="*/ 360 w 41040"/>
              <a:gd name="textAreaRight" fmla="*/ 40680 w 41040"/>
              <a:gd name="textAreaTop" fmla="*/ 360 h 239760"/>
              <a:gd name="textAreaBottom" fmla="*/ 239400 h 239760"/>
            </a:gdLst>
            <a:ahLst/>
            <a:rect l="textAreaLeft" t="textAreaTop" r="textAreaRight" b="textAreaBottom"/>
            <a:pathLst>
              <a:path w="21600" h="125280">
                <a:moveTo>
                  <a:pt x="830" y="0"/>
                </a:moveTo>
                <a:arcTo wR="830" hR="830" stAng="16200000" swAng="-5400000"/>
                <a:lnTo>
                  <a:pt x="0" y="124450"/>
                </a:lnTo>
                <a:arcTo wR="830" hR="830" stAng="10800000" swAng="-5400000"/>
                <a:lnTo>
                  <a:pt x="20770" y="125280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90800" y="3284640"/>
            <a:ext cx="41040" cy="320400"/>
          </a:xfrm>
          <a:custGeom>
            <a:avLst/>
            <a:gdLst>
              <a:gd name="textAreaLeft" fmla="*/ 360 w 41040"/>
              <a:gd name="textAreaRight" fmla="*/ 40680 w 4104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67353">
                <a:moveTo>
                  <a:pt x="830" y="0"/>
                </a:moveTo>
                <a:arcTo wR="830" hR="830" stAng="16200000" swAng="-5400000"/>
                <a:lnTo>
                  <a:pt x="0" y="166523"/>
                </a:lnTo>
                <a:arcTo wR="830" hR="830" stAng="10800000" swAng="-5400000"/>
                <a:lnTo>
                  <a:pt x="20770" y="167353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46440" y="5181480"/>
            <a:ext cx="39600" cy="422280"/>
          </a:xfrm>
          <a:custGeom>
            <a:avLst/>
            <a:gdLst>
              <a:gd name="textAreaLeft" fmla="*/ 360 w 39600"/>
              <a:gd name="textAreaRight" fmla="*/ 39240 w 39600"/>
              <a:gd name="textAreaTop" fmla="*/ 360 h 422280"/>
              <a:gd name="textAreaBottom" fmla="*/ 421920 h 422280"/>
            </a:gdLst>
            <a:ahLst/>
            <a:rect l="textAreaLeft" t="textAreaTop" r="textAreaRight" b="textAreaBottom"/>
            <a:pathLst>
              <a:path w="21600" h="228454">
                <a:moveTo>
                  <a:pt x="900" y="0"/>
                </a:moveTo>
                <a:arcTo wR="900" hR="900" stAng="16200000" swAng="-5400000"/>
                <a:lnTo>
                  <a:pt x="0" y="227554"/>
                </a:lnTo>
                <a:arcTo wR="900" hR="900" stAng="10800000" swAng="-5400000"/>
                <a:lnTo>
                  <a:pt x="20700" y="22845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14600" y="464184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14600" y="5181480"/>
            <a:ext cx="39600" cy="657360"/>
          </a:xfrm>
          <a:custGeom>
            <a:avLst/>
            <a:gdLst>
              <a:gd name="textAreaLeft" fmla="*/ 360 w 39600"/>
              <a:gd name="textAreaRight" fmla="*/ 39240 w 39600"/>
              <a:gd name="textAreaTop" fmla="*/ 360 h 657360"/>
              <a:gd name="textAreaBottom" fmla="*/ 657000 h 657360"/>
            </a:gdLst>
            <a:ahLst/>
            <a:rect l="textAreaLeft" t="textAreaTop" r="textAreaRight" b="textAreaBottom"/>
            <a:pathLst>
              <a:path w="21600" h="355524">
                <a:moveTo>
                  <a:pt x="900" y="0"/>
                </a:moveTo>
                <a:arcTo wR="900" hR="900" stAng="16200000" swAng="-5400000"/>
                <a:lnTo>
                  <a:pt x="0" y="354624"/>
                </a:lnTo>
                <a:arcTo wR="900" hR="900" stAng="10800000" swAng="-5400000"/>
                <a:lnTo>
                  <a:pt x="20700" y="35552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3880" y="140004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03880" y="212076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03880" y="270360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03880" y="4005360"/>
            <a:ext cx="39600" cy="32040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3384">
                <a:moveTo>
                  <a:pt x="900" y="0"/>
                </a:moveTo>
                <a:arcTo wR="900" hR="900" stAng="16200000" swAng="-5400000"/>
                <a:lnTo>
                  <a:pt x="0" y="172484"/>
                </a:lnTo>
                <a:arcTo wR="900" hR="900" stAng="10800000" swAng="-5400000"/>
                <a:lnTo>
                  <a:pt x="20700" y="17338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03880" y="464184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03880" y="5181480"/>
            <a:ext cx="39600" cy="287280"/>
          </a:xfrm>
          <a:custGeom>
            <a:avLst/>
            <a:gdLst>
              <a:gd name="textAreaLeft" fmla="*/ 360 w 39600"/>
              <a:gd name="textAreaRight" fmla="*/ 39240 w 39600"/>
              <a:gd name="textAreaTop" fmla="*/ 360 h 287280"/>
              <a:gd name="textAreaBottom" fmla="*/ 286920 h 287280"/>
            </a:gdLst>
            <a:ahLst/>
            <a:rect l="textAreaLeft" t="textAreaTop" r="textAreaRight" b="textAreaBottom"/>
            <a:pathLst>
              <a:path w="21600" h="155481">
                <a:moveTo>
                  <a:pt x="900" y="0"/>
                </a:moveTo>
                <a:arcTo wR="900" hR="900" stAng="16200000" swAng="-5400000"/>
                <a:lnTo>
                  <a:pt x="0" y="154581"/>
                </a:lnTo>
                <a:arcTo wR="900" hR="900" stAng="10800000" swAng="-5400000"/>
                <a:lnTo>
                  <a:pt x="20700" y="155481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06440" y="2703600"/>
            <a:ext cx="41400" cy="320760"/>
          </a:xfrm>
          <a:custGeom>
            <a:avLst/>
            <a:gdLst>
              <a:gd name="textAreaLeft" fmla="*/ 360 w 41400"/>
              <a:gd name="textAreaRight" fmla="*/ 41040 w 414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66097">
                <a:moveTo>
                  <a:pt x="830" y="0"/>
                </a:moveTo>
                <a:arcTo wR="830" hR="830" stAng="16200000" swAng="-5400000"/>
                <a:lnTo>
                  <a:pt x="0" y="165267"/>
                </a:lnTo>
                <a:arcTo wR="830" hR="830" stAng="10800000" swAng="-5400000"/>
                <a:lnTo>
                  <a:pt x="20770" y="166097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06440" y="4005360"/>
            <a:ext cx="41400" cy="320400"/>
          </a:xfrm>
          <a:custGeom>
            <a:avLst/>
            <a:gdLst>
              <a:gd name="textAreaLeft" fmla="*/ 360 w 41400"/>
              <a:gd name="textAreaRight" fmla="*/ 41040 w 4140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65910">
                <a:moveTo>
                  <a:pt x="830" y="0"/>
                </a:moveTo>
                <a:arcTo wR="830" hR="830" stAng="16200000" swAng="-5400000"/>
                <a:lnTo>
                  <a:pt x="0" y="165080"/>
                </a:lnTo>
                <a:arcTo wR="830" hR="830" stAng="10800000" swAng="-5400000"/>
                <a:lnTo>
                  <a:pt x="20770" y="165910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06440" y="3284640"/>
            <a:ext cx="41400" cy="320400"/>
          </a:xfrm>
          <a:custGeom>
            <a:avLst/>
            <a:gdLst>
              <a:gd name="textAreaLeft" fmla="*/ 360 w 41400"/>
              <a:gd name="textAreaRight" fmla="*/ 41040 w 4140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65910">
                <a:moveTo>
                  <a:pt x="830" y="0"/>
                </a:moveTo>
                <a:arcTo wR="830" hR="830" stAng="16200000" swAng="-5400000"/>
                <a:lnTo>
                  <a:pt x="0" y="165080"/>
                </a:lnTo>
                <a:arcTo wR="830" hR="830" stAng="10800000" swAng="-5400000"/>
                <a:lnTo>
                  <a:pt x="20770" y="165910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77840" y="464184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77840" y="5181480"/>
            <a:ext cx="39600" cy="368280"/>
          </a:xfrm>
          <a:custGeom>
            <a:avLst/>
            <a:gdLst>
              <a:gd name="textAreaLeft" fmla="*/ 360 w 39600"/>
              <a:gd name="textAreaRight" fmla="*/ 39240 w 39600"/>
              <a:gd name="textAreaTop" fmla="*/ 360 h 368280"/>
              <a:gd name="textAreaBottom" fmla="*/ 367920 h 368280"/>
            </a:gdLst>
            <a:ahLst/>
            <a:rect l="textAreaLeft" t="textAreaTop" r="textAreaRight" b="textAreaBottom"/>
            <a:pathLst>
              <a:path w="21600" h="199265">
                <a:moveTo>
                  <a:pt x="900" y="0"/>
                </a:moveTo>
                <a:arcTo wR="900" hR="900" stAng="16200000" swAng="-5400000"/>
                <a:lnTo>
                  <a:pt x="0" y="198365"/>
                </a:lnTo>
                <a:arcTo wR="900" hR="900" stAng="10800000" swAng="-5400000"/>
                <a:lnTo>
                  <a:pt x="20700" y="199265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77840" y="4005360"/>
            <a:ext cx="39600" cy="32040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3384">
                <a:moveTo>
                  <a:pt x="900" y="0"/>
                </a:moveTo>
                <a:arcTo wR="900" hR="900" stAng="16200000" swAng="-5400000"/>
                <a:lnTo>
                  <a:pt x="0" y="172484"/>
                </a:lnTo>
                <a:arcTo wR="900" hR="900" stAng="10800000" swAng="-5400000"/>
                <a:lnTo>
                  <a:pt x="20700" y="17338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464328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81480"/>
            <a:ext cx="39600" cy="474840"/>
          </a:xfrm>
          <a:custGeom>
            <a:avLst/>
            <a:gdLst>
              <a:gd name="textAreaLeft" fmla="*/ 360 w 39600"/>
              <a:gd name="textAreaRight" fmla="*/ 39240 w 39600"/>
              <a:gd name="textAreaTop" fmla="*/ 360 h 474840"/>
              <a:gd name="textAreaBottom" fmla="*/ 474480 h 474840"/>
            </a:gdLst>
            <a:ahLst/>
            <a:rect l="textAreaLeft" t="textAreaTop" r="textAreaRight" b="textAreaBottom"/>
            <a:pathLst>
              <a:path w="21600" h="256865">
                <a:moveTo>
                  <a:pt x="900" y="0"/>
                </a:moveTo>
                <a:arcTo wR="900" hR="900" stAng="16200000" swAng="-5400000"/>
                <a:lnTo>
                  <a:pt x="0" y="255965"/>
                </a:lnTo>
                <a:arcTo wR="900" hR="900" stAng="10800000" swAng="-5400000"/>
                <a:lnTo>
                  <a:pt x="20700" y="256865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30600" y="2708280"/>
            <a:ext cx="41040" cy="320760"/>
          </a:xfrm>
          <a:custGeom>
            <a:avLst/>
            <a:gdLst>
              <a:gd name="textAreaLeft" fmla="*/ 360 w 41040"/>
              <a:gd name="textAreaRight" fmla="*/ 40680 w 4104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67541">
                <a:moveTo>
                  <a:pt x="830" y="0"/>
                </a:moveTo>
                <a:arcTo wR="830" hR="830" stAng="16200000" swAng="-5400000"/>
                <a:lnTo>
                  <a:pt x="0" y="166711"/>
                </a:lnTo>
                <a:arcTo wR="830" hR="830" stAng="10800000" swAng="-5400000"/>
                <a:lnTo>
                  <a:pt x="20770" y="167541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41600" y="2708280"/>
            <a:ext cx="41400" cy="320760"/>
          </a:xfrm>
          <a:custGeom>
            <a:avLst/>
            <a:gdLst>
              <a:gd name="textAreaLeft" fmla="*/ 360 w 41400"/>
              <a:gd name="textAreaRight" fmla="*/ 41040 w 414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66097">
                <a:moveTo>
                  <a:pt x="830" y="0"/>
                </a:moveTo>
                <a:arcTo wR="830" hR="830" stAng="16200000" swAng="-5400000"/>
                <a:lnTo>
                  <a:pt x="0" y="165267"/>
                </a:lnTo>
                <a:arcTo wR="830" hR="830" stAng="10800000" swAng="-5400000"/>
                <a:lnTo>
                  <a:pt x="20770" y="166097"/>
                </a:lnTo>
                <a:arcTo wR="830" hR="830" stAng="5400000" swAng="-5400000"/>
                <a:lnTo>
                  <a:pt x="21600" y="830"/>
                </a:lnTo>
                <a:arcTo wR="830" hR="83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21160" y="270828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0" y="914400"/>
            <a:ext cx="1447920" cy="5257800"/>
          </a:xfrm>
          <a:custGeom>
            <a:avLst/>
            <a:gdLst>
              <a:gd name="textAreaLeft" fmla="*/ 360 w 1447920"/>
              <a:gd name="textAreaRight" fmla="*/ 1447560 w 1447920"/>
              <a:gd name="textAreaTop" fmla="*/ 360 h 5257800"/>
              <a:gd name="textAreaBottom" fmla="*/ 5257440 h 5257800"/>
            </a:gdLst>
            <a:ahLst/>
            <a:rect l="textAreaLeft" t="textAreaTop" r="textAreaRight" b="textAreaBottom"/>
            <a:pathLst>
              <a:path w="21600" h="78421">
                <a:moveTo>
                  <a:pt x="23" y="0"/>
                </a:moveTo>
                <a:arcTo wR="23" hR="23" stAng="16200000" swAng="-5400000"/>
                <a:lnTo>
                  <a:pt x="0" y="78398"/>
                </a:lnTo>
                <a:arcTo wR="23" hR="23" stAng="10800000" swAng="-5400000"/>
                <a:lnTo>
                  <a:pt x="21577" y="78421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29400" y="1650960"/>
            <a:ext cx="180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99400" y="1650960"/>
            <a:ext cx="144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59760" y="1650960"/>
            <a:ext cx="14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78880" y="1324080"/>
            <a:ext cx="39600" cy="32040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3384">
                <a:moveTo>
                  <a:pt x="900" y="0"/>
                </a:moveTo>
                <a:arcTo wR="900" hR="900" stAng="16200000" swAng="-5400000"/>
                <a:lnTo>
                  <a:pt x="0" y="172484"/>
                </a:lnTo>
                <a:arcTo wR="900" hR="900" stAng="10800000" swAng="-5400000"/>
                <a:lnTo>
                  <a:pt x="20700" y="17338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08880" y="1324080"/>
            <a:ext cx="39600" cy="32040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3384">
                <a:moveTo>
                  <a:pt x="900" y="0"/>
                </a:moveTo>
                <a:arcTo wR="900" hR="900" stAng="16200000" swAng="-5400000"/>
                <a:lnTo>
                  <a:pt x="0" y="172484"/>
                </a:lnTo>
                <a:arcTo wR="900" hR="900" stAng="10800000" swAng="-5400000"/>
                <a:lnTo>
                  <a:pt x="20700" y="17338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08880" y="2044800"/>
            <a:ext cx="39600" cy="32040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3384">
                <a:moveTo>
                  <a:pt x="900" y="0"/>
                </a:moveTo>
                <a:arcTo wR="900" hR="900" stAng="16200000" swAng="-5400000"/>
                <a:lnTo>
                  <a:pt x="0" y="172484"/>
                </a:lnTo>
                <a:arcTo wR="900" hR="900" stAng="10800000" swAng="-5400000"/>
                <a:lnTo>
                  <a:pt x="20700" y="17338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8880" y="2044800"/>
            <a:ext cx="39600" cy="32040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400"/>
              <a:gd name="textAreaBottom" fmla="*/ 320040 h 320400"/>
            </a:gdLst>
            <a:ahLst/>
            <a:rect l="textAreaLeft" t="textAreaTop" r="textAreaRight" b="textAreaBottom"/>
            <a:pathLst>
              <a:path w="21600" h="173384">
                <a:moveTo>
                  <a:pt x="900" y="0"/>
                </a:moveTo>
                <a:arcTo wR="900" hR="900" stAng="16200000" swAng="-5400000"/>
                <a:lnTo>
                  <a:pt x="0" y="172484"/>
                </a:lnTo>
                <a:arcTo wR="900" hR="900" stAng="10800000" swAng="-5400000"/>
                <a:lnTo>
                  <a:pt x="20700" y="173384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8880" y="262728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78880" y="262728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78880" y="320832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08880" y="392904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78880" y="392904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8880" y="456552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78880" y="456552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78880" y="5105520"/>
            <a:ext cx="39600" cy="711000"/>
          </a:xfrm>
          <a:custGeom>
            <a:avLst/>
            <a:gdLst>
              <a:gd name="textAreaLeft" fmla="*/ 360 w 39600"/>
              <a:gd name="textAreaRight" fmla="*/ 39240 w 39600"/>
              <a:gd name="textAreaTop" fmla="*/ 360 h 711000"/>
              <a:gd name="textAreaBottom" fmla="*/ 710640 h 711000"/>
            </a:gdLst>
            <a:ahLst/>
            <a:rect l="textAreaLeft" t="textAreaTop" r="textAreaRight" b="textAreaBottom"/>
            <a:pathLst>
              <a:path w="21600" h="384519">
                <a:moveTo>
                  <a:pt x="900" y="0"/>
                </a:moveTo>
                <a:arcTo wR="900" hR="900" stAng="16200000" swAng="-5400000"/>
                <a:lnTo>
                  <a:pt x="0" y="383619"/>
                </a:lnTo>
                <a:arcTo wR="900" hR="900" stAng="10800000" swAng="-5400000"/>
                <a:lnTo>
                  <a:pt x="20700" y="384519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08880" y="5105520"/>
            <a:ext cx="39600" cy="777600"/>
          </a:xfrm>
          <a:custGeom>
            <a:avLst/>
            <a:gdLst>
              <a:gd name="textAreaLeft" fmla="*/ 360 w 39600"/>
              <a:gd name="textAreaRight" fmla="*/ 39240 w 39600"/>
              <a:gd name="textAreaTop" fmla="*/ 360 h 777600"/>
              <a:gd name="textAreaBottom" fmla="*/ 777240 h 777600"/>
            </a:gdLst>
            <a:ahLst/>
            <a:rect l="textAreaLeft" t="textAreaTop" r="textAreaRight" b="textAreaBottom"/>
            <a:pathLst>
              <a:path w="21600" h="420519">
                <a:moveTo>
                  <a:pt x="900" y="0"/>
                </a:moveTo>
                <a:arcTo wR="900" hR="900" stAng="16200000" swAng="-5400000"/>
                <a:lnTo>
                  <a:pt x="0" y="419619"/>
                </a:lnTo>
                <a:arcTo wR="900" hR="900" stAng="10800000" swAng="-5400000"/>
                <a:lnTo>
                  <a:pt x="20700" y="420519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40680" y="456552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40680" y="392904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40680" y="2627280"/>
            <a:ext cx="39600" cy="320760"/>
          </a:xfrm>
          <a:custGeom>
            <a:avLst/>
            <a:gdLst>
              <a:gd name="textAreaLeft" fmla="*/ 360 w 39600"/>
              <a:gd name="textAreaRight" fmla="*/ 39240 w 3960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3578">
                <a:moveTo>
                  <a:pt x="900" y="0"/>
                </a:moveTo>
                <a:arcTo wR="900" hR="900" stAng="16200000" swAng="-5400000"/>
                <a:lnTo>
                  <a:pt x="0" y="172678"/>
                </a:lnTo>
                <a:arcTo wR="900" hR="900" stAng="10800000" swAng="-5400000"/>
                <a:lnTo>
                  <a:pt x="20700" y="173578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38880" y="1325520"/>
            <a:ext cx="39960" cy="320760"/>
          </a:xfrm>
          <a:custGeom>
            <a:avLst/>
            <a:gdLst>
              <a:gd name="textAreaLeft" fmla="*/ 360 w 39960"/>
              <a:gd name="textAreaRight" fmla="*/ 39600 w 39960"/>
              <a:gd name="textAreaTop" fmla="*/ 360 h 320760"/>
              <a:gd name="textAreaBottom" fmla="*/ 320400 h 320760"/>
            </a:gdLst>
            <a:ahLst/>
            <a:rect l="textAreaLeft" t="textAreaTop" r="textAreaRight" b="textAreaBottom"/>
            <a:pathLst>
              <a:path w="21600" h="172029">
                <a:moveTo>
                  <a:pt x="900" y="0"/>
                </a:moveTo>
                <a:arcTo wR="900" hR="900" stAng="16200000" swAng="-5400000"/>
                <a:lnTo>
                  <a:pt x="0" y="171129"/>
                </a:lnTo>
                <a:arcTo wR="900" hR="900" stAng="10800000" swAng="-5400000"/>
                <a:lnTo>
                  <a:pt x="20700" y="172029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d404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857160" y="223920"/>
            <a:ext cx="6105600" cy="382680"/>
            <a:chOff x="857160" y="223920"/>
            <a:chExt cx="6105600" cy="382680"/>
          </a:xfrm>
        </p:grpSpPr>
        <p:sp>
          <p:nvSpPr>
            <p:cNvPr id="240" name=""/>
            <p:cNvSpPr/>
            <p:nvPr/>
          </p:nvSpPr>
          <p:spPr>
            <a:xfrm>
              <a:off x="857160" y="223920"/>
              <a:ext cx="6105600" cy="382680"/>
            </a:xfrm>
            <a:prstGeom prst="roundRect">
              <a:avLst>
                <a:gd name="adj" fmla="val 412"/>
              </a:avLst>
            </a:prstGeom>
            <a:solidFill>
              <a:srgbClr val="f1f7c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9040" y="223920"/>
              <a:ext cx="608148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EP 2:  mRNA and EST clustering, gene models crea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791320" y="3352680"/>
            <a:ext cx="761760" cy="228600"/>
          </a:xfrm>
          <a:custGeom>
            <a:avLst/>
            <a:gdLst/>
            <a:ahLst/>
            <a:rect l="l" t="t" r="r" b="b"/>
            <a:pathLst>
              <a:path w="2117" h="636">
                <a:moveTo>
                  <a:pt x="0" y="158"/>
                </a:moveTo>
                <a:lnTo>
                  <a:pt x="1587" y="158"/>
                </a:lnTo>
                <a:lnTo>
                  <a:pt x="1587" y="0"/>
                </a:lnTo>
                <a:lnTo>
                  <a:pt x="2116" y="317"/>
                </a:lnTo>
                <a:lnTo>
                  <a:pt x="1587" y="635"/>
                </a:lnTo>
                <a:lnTo>
                  <a:pt x="1587" y="476"/>
                </a:lnTo>
                <a:lnTo>
                  <a:pt x="0" y="476"/>
                </a:lnTo>
                <a:lnTo>
                  <a:pt x="0" y="15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4280" y="6132600"/>
            <a:ext cx="3819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EST and mRNA alig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78520" y="6132600"/>
            <a:ext cx="1485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160960" y="2133720"/>
            <a:ext cx="14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46840" y="1295280"/>
            <a:ext cx="228600" cy="83844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838440"/>
              <a:gd name="textAreaBottom" fmla="*/ 838080 h 838440"/>
            </a:gdLst>
            <a:ahLst/>
            <a:rect l="textAreaLeft" t="textAreaTop" r="textAreaRight" b="textAreaBottom"/>
            <a:pathLst>
              <a:path w="21600" h="79132">
                <a:moveTo>
                  <a:pt x="150" y="0"/>
                </a:moveTo>
                <a:arcTo wR="150" hR="150" stAng="16200000" swAng="-5400000"/>
                <a:lnTo>
                  <a:pt x="0" y="78982"/>
                </a:lnTo>
                <a:arcTo wR="150" hR="150" stAng="10800000" swAng="-5400000"/>
                <a:lnTo>
                  <a:pt x="21450" y="791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37120" y="3894120"/>
            <a:ext cx="227160" cy="830160"/>
          </a:xfrm>
          <a:custGeom>
            <a:avLst/>
            <a:gdLst>
              <a:gd name="textAreaLeft" fmla="*/ 360 w 227160"/>
              <a:gd name="textAreaRight" fmla="*/ 226800 w 227160"/>
              <a:gd name="textAreaTop" fmla="*/ 360 h 830160"/>
              <a:gd name="textAreaBottom" fmla="*/ 829800 h 830160"/>
            </a:gdLst>
            <a:ahLst/>
            <a:rect l="textAreaLeft" t="textAreaTop" r="textAreaRight" b="textAreaBottom"/>
            <a:pathLst>
              <a:path w="21600" h="78847">
                <a:moveTo>
                  <a:pt x="152" y="0"/>
                </a:moveTo>
                <a:arcTo wR="152" hR="152" stAng="16200000" swAng="-5400000"/>
                <a:lnTo>
                  <a:pt x="0" y="78695"/>
                </a:lnTo>
                <a:arcTo wR="152" hR="152" stAng="10800000" swAng="-5400000"/>
                <a:lnTo>
                  <a:pt x="21448" y="78847"/>
                </a:lnTo>
                <a:arcTo wR="152" hR="152" stAng="5400000" swAng="-5400000"/>
                <a:lnTo>
                  <a:pt x="21600" y="152"/>
                </a:lnTo>
                <a:arcTo wR="152" hR="152" stAng="0" swAng="-5400000"/>
                <a:close/>
              </a:path>
            </a:pathLst>
          </a:cu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46840" y="5181480"/>
            <a:ext cx="228600" cy="83844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838440"/>
              <a:gd name="textAreaBottom" fmla="*/ 838080 h 838440"/>
            </a:gdLst>
            <a:ahLst/>
            <a:rect l="textAreaLeft" t="textAreaTop" r="textAreaRight" b="textAreaBottom"/>
            <a:pathLst>
              <a:path w="21600" h="79132">
                <a:moveTo>
                  <a:pt x="150" y="0"/>
                </a:moveTo>
                <a:arcTo wR="150" hR="150" stAng="16200000" swAng="-5400000"/>
                <a:lnTo>
                  <a:pt x="0" y="78982"/>
                </a:lnTo>
                <a:arcTo wR="150" hR="150" stAng="10800000" swAng="-5400000"/>
                <a:lnTo>
                  <a:pt x="21450" y="791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54640" y="2133720"/>
            <a:ext cx="14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0160" y="1295280"/>
            <a:ext cx="228600" cy="83844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838440"/>
              <a:gd name="textAreaBottom" fmla="*/ 838080 h 838440"/>
            </a:gdLst>
            <a:ahLst/>
            <a:rect l="textAreaLeft" t="textAreaTop" r="textAreaRight" b="textAreaBottom"/>
            <a:pathLst>
              <a:path w="21600" h="79132">
                <a:moveTo>
                  <a:pt x="150" y="0"/>
                </a:moveTo>
                <a:arcTo wR="150" hR="150" stAng="16200000" swAng="-5400000"/>
                <a:lnTo>
                  <a:pt x="0" y="78982"/>
                </a:lnTo>
                <a:arcTo wR="150" hR="150" stAng="10800000" swAng="-5400000"/>
                <a:lnTo>
                  <a:pt x="21450" y="791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0160" y="2590920"/>
            <a:ext cx="228600" cy="83808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838080"/>
              <a:gd name="textAreaBottom" fmla="*/ 837720 h 838080"/>
            </a:gdLst>
            <a:ahLst/>
            <a:rect l="textAreaLeft" t="textAreaTop" r="textAreaRight" b="textAreaBottom"/>
            <a:pathLst>
              <a:path w="21600" h="79098">
                <a:moveTo>
                  <a:pt x="150" y="0"/>
                </a:moveTo>
                <a:arcTo wR="150" hR="150" stAng="16200000" swAng="-5400000"/>
                <a:lnTo>
                  <a:pt x="0" y="78948"/>
                </a:lnTo>
                <a:arcTo wR="150" hR="150" stAng="10800000" swAng="-5400000"/>
                <a:lnTo>
                  <a:pt x="21450" y="79098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0160" y="3886200"/>
            <a:ext cx="228600" cy="83808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838080"/>
              <a:gd name="textAreaBottom" fmla="*/ 837720 h 838080"/>
            </a:gdLst>
            <a:ahLst/>
            <a:rect l="textAreaLeft" t="textAreaTop" r="textAreaRight" b="textAreaBottom"/>
            <a:pathLst>
              <a:path w="21600" h="79098">
                <a:moveTo>
                  <a:pt x="150" y="0"/>
                </a:moveTo>
                <a:arcTo wR="150" hR="150" stAng="16200000" swAng="-5400000"/>
                <a:lnTo>
                  <a:pt x="0" y="78948"/>
                </a:lnTo>
                <a:arcTo wR="150" hR="150" stAng="10800000" swAng="-5400000"/>
                <a:lnTo>
                  <a:pt x="21450" y="79098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0160" y="5181480"/>
            <a:ext cx="228600" cy="83844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838440"/>
              <a:gd name="textAreaBottom" fmla="*/ 838080 h 838440"/>
            </a:gdLst>
            <a:ahLst/>
            <a:rect l="textAreaLeft" t="textAreaTop" r="textAreaRight" b="textAreaBottom"/>
            <a:pathLst>
              <a:path w="21600" h="79132">
                <a:moveTo>
                  <a:pt x="150" y="0"/>
                </a:moveTo>
                <a:arcTo wR="150" hR="150" stAng="16200000" swAng="-5400000"/>
                <a:lnTo>
                  <a:pt x="0" y="78982"/>
                </a:lnTo>
                <a:arcTo wR="150" hR="150" stAng="10800000" swAng="-5400000"/>
                <a:lnTo>
                  <a:pt x="21450" y="791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6840" y="6416640"/>
            <a:ext cx="357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70520" y="205740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9720" y="2743200"/>
            <a:ext cx="585720" cy="358920"/>
          </a:xfrm>
          <a:custGeom>
            <a:avLst/>
            <a:gdLst/>
            <a:ahLst/>
            <a:rect l="l" t="t" r="r" b="b"/>
            <a:pathLst>
              <a:path w="1627" h="997">
                <a:moveTo>
                  <a:pt x="406" y="0"/>
                </a:moveTo>
                <a:lnTo>
                  <a:pt x="1220" y="0"/>
                </a:lnTo>
                <a:lnTo>
                  <a:pt x="1626" y="498"/>
                </a:lnTo>
                <a:lnTo>
                  <a:pt x="1220" y="996"/>
                </a:lnTo>
                <a:lnTo>
                  <a:pt x="406" y="996"/>
                </a:lnTo>
                <a:lnTo>
                  <a:pt x="0" y="498"/>
                </a:lnTo>
                <a:lnTo>
                  <a:pt x="406" y="0"/>
                </a:lnTo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15040" y="2768760"/>
            <a:ext cx="596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85160" y="1594080"/>
            <a:ext cx="732240" cy="518040"/>
            <a:chOff x="5285160" y="1594080"/>
            <a:chExt cx="732240" cy="518040"/>
          </a:xfrm>
        </p:grpSpPr>
        <p:sp>
          <p:nvSpPr>
            <p:cNvPr id="259" name=""/>
            <p:cNvSpPr/>
            <p:nvPr/>
          </p:nvSpPr>
          <p:spPr>
            <a:xfrm>
              <a:off x="5342040" y="1639800"/>
              <a:ext cx="623880" cy="425520"/>
            </a:xfrm>
            <a:prstGeom prst="roundRect">
              <a:avLst>
                <a:gd name="adj" fmla="val 37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285160" y="1594080"/>
              <a:ext cx="732240" cy="518040"/>
              <a:chOff x="5285160" y="1594080"/>
              <a:chExt cx="732240" cy="518040"/>
            </a:xfrm>
          </p:grpSpPr>
          <p:sp>
            <p:nvSpPr>
              <p:cNvPr id="261" name=""/>
              <p:cNvSpPr/>
              <p:nvPr/>
            </p:nvSpPr>
            <p:spPr>
              <a:xfrm>
                <a:off x="5344920" y="1634760"/>
                <a:ext cx="612720" cy="438480"/>
              </a:xfrm>
              <a:prstGeom prst="roundRect">
                <a:avLst>
                  <a:gd name="adj" fmla="val 361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285160" y="1594080"/>
                <a:ext cx="7322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Fram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shif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444600" y="228600"/>
            <a:ext cx="6892920" cy="382680"/>
            <a:chOff x="444600" y="228600"/>
            <a:chExt cx="6892920" cy="382680"/>
          </a:xfrm>
        </p:grpSpPr>
        <p:sp>
          <p:nvSpPr>
            <p:cNvPr id="264" name=""/>
            <p:cNvSpPr/>
            <p:nvPr/>
          </p:nvSpPr>
          <p:spPr>
            <a:xfrm>
              <a:off x="444600" y="228600"/>
              <a:ext cx="6892920" cy="382680"/>
            </a:xfrm>
            <a:prstGeom prst="roundRect">
              <a:avLst>
                <a:gd name="adj" fmla="val 412"/>
              </a:avLst>
            </a:prstGeom>
            <a:solidFill>
              <a:srgbClr val="f1f7c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8640" y="228600"/>
              <a:ext cx="68648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EP 3:  gene models evaluated, corrected based on protein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57200" y="1905120"/>
            <a:ext cx="3274920" cy="2512800"/>
            <a:chOff x="457200" y="1905120"/>
            <a:chExt cx="3274920" cy="2512800"/>
          </a:xfrm>
        </p:grpSpPr>
        <p:sp>
          <p:nvSpPr>
            <p:cNvPr id="267" name=""/>
            <p:cNvSpPr/>
            <p:nvPr/>
          </p:nvSpPr>
          <p:spPr>
            <a:xfrm>
              <a:off x="457200" y="1905120"/>
              <a:ext cx="3274920" cy="2512800"/>
            </a:xfrm>
            <a:prstGeom prst="roundRect">
              <a:avLst>
                <a:gd name="adj" fmla="val 6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1905120"/>
              <a:ext cx="3274920" cy="22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 model translation is compared with matching protein from GenBank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there is discrepancy EAnnot tries to adjust gene model to resolve frame shifts, insertions and deletion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046840" y="2590920"/>
            <a:ext cx="228600" cy="83808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838080"/>
              <a:gd name="textAreaBottom" fmla="*/ 837720 h 838080"/>
            </a:gdLst>
            <a:ahLst/>
            <a:rect l="textAreaLeft" t="textAreaTop" r="textAreaRight" b="textAreaBottom"/>
            <a:pathLst>
              <a:path w="21600" h="79098">
                <a:moveTo>
                  <a:pt x="150" y="0"/>
                </a:moveTo>
                <a:arcTo wR="150" hR="150" stAng="16200000" swAng="-5400000"/>
                <a:lnTo>
                  <a:pt x="0" y="78948"/>
                </a:lnTo>
                <a:arcTo wR="150" hR="150" stAng="10800000" swAng="-5400000"/>
                <a:lnTo>
                  <a:pt x="21450" y="79098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89960" y="2743200"/>
            <a:ext cx="3193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86560" y="3824280"/>
            <a:ext cx="1204920" cy="14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2143080"/>
            <a:ext cx="18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45360" y="2152800"/>
            <a:ext cx="18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32840" y="1300320"/>
            <a:ext cx="228600" cy="9144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914400"/>
              <a:gd name="textAreaBottom" fmla="*/ 914040 h 914400"/>
            </a:gdLst>
            <a:ahLst/>
            <a:rect l="textAreaLeft" t="textAreaTop" r="textAreaRight" b="textAreaBottom"/>
            <a:pathLst>
              <a:path w="21600" h="86298">
                <a:moveTo>
                  <a:pt x="150" y="0"/>
                </a:moveTo>
                <a:arcTo wR="150" hR="150" stAng="16200000" swAng="-5400000"/>
                <a:lnTo>
                  <a:pt x="0" y="86148"/>
                </a:lnTo>
                <a:arcTo wR="150" hR="150" stAng="10800000" swAng="-5400000"/>
                <a:lnTo>
                  <a:pt x="21450" y="86298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32840" y="2595600"/>
            <a:ext cx="228600" cy="83808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838080"/>
              <a:gd name="textAreaBottom" fmla="*/ 837720 h 838080"/>
            </a:gdLst>
            <a:ahLst/>
            <a:rect l="textAreaLeft" t="textAreaTop" r="textAreaRight" b="textAreaBottom"/>
            <a:pathLst>
              <a:path w="21600" h="79098">
                <a:moveTo>
                  <a:pt x="150" y="0"/>
                </a:moveTo>
                <a:arcTo wR="150" hR="150" stAng="16200000" swAng="-5400000"/>
                <a:lnTo>
                  <a:pt x="0" y="78948"/>
                </a:lnTo>
                <a:arcTo wR="150" hR="150" stAng="10800000" swAng="-5400000"/>
                <a:lnTo>
                  <a:pt x="21450" y="79098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32840" y="3890880"/>
            <a:ext cx="228600" cy="83844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838440"/>
              <a:gd name="textAreaBottom" fmla="*/ 838080 h 838440"/>
            </a:gdLst>
            <a:ahLst/>
            <a:rect l="textAreaLeft" t="textAreaTop" r="textAreaRight" b="textAreaBottom"/>
            <a:pathLst>
              <a:path w="21600" h="79132">
                <a:moveTo>
                  <a:pt x="150" y="0"/>
                </a:moveTo>
                <a:arcTo wR="150" hR="150" stAng="16200000" swAng="-5400000"/>
                <a:lnTo>
                  <a:pt x="0" y="78982"/>
                </a:lnTo>
                <a:arcTo wR="150" hR="150" stAng="10800000" swAng="-5400000"/>
                <a:lnTo>
                  <a:pt x="21450" y="791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32840" y="5186520"/>
            <a:ext cx="228600" cy="83808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838080"/>
              <a:gd name="textAreaBottom" fmla="*/ 837720 h 838080"/>
            </a:gdLst>
            <a:ahLst/>
            <a:rect l="textAreaLeft" t="textAreaTop" r="textAreaRight" b="textAreaBottom"/>
            <a:pathLst>
              <a:path w="21600" h="79098">
                <a:moveTo>
                  <a:pt x="150" y="0"/>
                </a:moveTo>
                <a:arcTo wR="150" hR="150" stAng="16200000" swAng="-5400000"/>
                <a:lnTo>
                  <a:pt x="0" y="78948"/>
                </a:lnTo>
                <a:arcTo wR="150" hR="150" stAng="10800000" swAng="-5400000"/>
                <a:lnTo>
                  <a:pt x="21450" y="79098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39160" y="1300320"/>
            <a:ext cx="228600" cy="9144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914400"/>
              <a:gd name="textAreaBottom" fmla="*/ 914040 h 914400"/>
            </a:gdLst>
            <a:ahLst/>
            <a:rect l="textAreaLeft" t="textAreaTop" r="textAreaRight" b="textAreaBottom"/>
            <a:pathLst>
              <a:path w="21600" h="86298">
                <a:moveTo>
                  <a:pt x="150" y="0"/>
                </a:moveTo>
                <a:arcTo wR="150" hR="150" stAng="16200000" swAng="-5400000"/>
                <a:lnTo>
                  <a:pt x="0" y="86148"/>
                </a:lnTo>
                <a:arcTo wR="150" hR="150" stAng="10800000" swAng="-5400000"/>
                <a:lnTo>
                  <a:pt x="21450" y="86298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31240" y="3898800"/>
            <a:ext cx="226800" cy="830520"/>
          </a:xfrm>
          <a:custGeom>
            <a:avLst/>
            <a:gdLst>
              <a:gd name="textAreaLeft" fmla="*/ 360 w 226800"/>
              <a:gd name="textAreaRight" fmla="*/ 226440 w 226800"/>
              <a:gd name="textAreaTop" fmla="*/ 360 h 830520"/>
              <a:gd name="textAreaBottom" fmla="*/ 830160 h 830520"/>
            </a:gdLst>
            <a:ahLst/>
            <a:rect l="textAreaLeft" t="textAreaTop" r="textAreaRight" b="textAreaBottom"/>
            <a:pathLst>
              <a:path w="21600" h="79006">
                <a:moveTo>
                  <a:pt x="152" y="0"/>
                </a:moveTo>
                <a:arcTo wR="152" hR="152" stAng="16200000" swAng="-5400000"/>
                <a:lnTo>
                  <a:pt x="0" y="78854"/>
                </a:lnTo>
                <a:arcTo wR="152" hR="152" stAng="10800000" swAng="-5400000"/>
                <a:lnTo>
                  <a:pt x="21448" y="79006"/>
                </a:lnTo>
                <a:arcTo wR="152" hR="152" stAng="5400000" swAng="-5400000"/>
                <a:lnTo>
                  <a:pt x="21600" y="152"/>
                </a:lnTo>
                <a:arcTo wR="152" hR="152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39160" y="5186520"/>
            <a:ext cx="228600" cy="83808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838080"/>
              <a:gd name="textAreaBottom" fmla="*/ 837720 h 838080"/>
            </a:gdLst>
            <a:ahLst/>
            <a:rect l="textAreaLeft" t="textAreaTop" r="textAreaRight" b="textAreaBottom"/>
            <a:pathLst>
              <a:path w="21600" h="79098">
                <a:moveTo>
                  <a:pt x="150" y="0"/>
                </a:moveTo>
                <a:arcTo wR="150" hR="150" stAng="16200000" swAng="-5400000"/>
                <a:lnTo>
                  <a:pt x="0" y="78948"/>
                </a:lnTo>
                <a:arcTo wR="150" hR="150" stAng="10800000" swAng="-5400000"/>
                <a:lnTo>
                  <a:pt x="21450" y="79098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039160" y="2595600"/>
            <a:ext cx="228600" cy="83808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838080"/>
              <a:gd name="textAreaBottom" fmla="*/ 837720 h 838080"/>
            </a:gdLst>
            <a:ahLst/>
            <a:rect l="textAreaLeft" t="textAreaTop" r="textAreaRight" b="textAreaBottom"/>
            <a:pathLst>
              <a:path w="21600" h="79098">
                <a:moveTo>
                  <a:pt x="150" y="0"/>
                </a:moveTo>
                <a:arcTo wR="150" hR="150" stAng="16200000" swAng="-5400000"/>
                <a:lnTo>
                  <a:pt x="0" y="78948"/>
                </a:lnTo>
                <a:arcTo wR="150" hR="150" stAng="10800000" swAng="-5400000"/>
                <a:lnTo>
                  <a:pt x="21450" y="79098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65640" y="2212920"/>
            <a:ext cx="4635360" cy="1800"/>
          </a:xfrm>
          <a:prstGeom prst="line">
            <a:avLst/>
          </a:prstGeom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950760"/>
            <a:ext cx="451944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NA    Translatio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DNA   Transl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85800" y="449280"/>
            <a:ext cx="3567240" cy="384120"/>
            <a:chOff x="685800" y="449280"/>
            <a:chExt cx="3567240" cy="384120"/>
          </a:xfrm>
        </p:grpSpPr>
        <p:sp>
          <p:nvSpPr>
            <p:cNvPr id="285" name=""/>
            <p:cNvSpPr/>
            <p:nvPr/>
          </p:nvSpPr>
          <p:spPr>
            <a:xfrm>
              <a:off x="685800" y="449280"/>
              <a:ext cx="3567240" cy="384120"/>
            </a:xfrm>
            <a:prstGeom prst="roundRect">
              <a:avLst>
                <a:gd name="adj" fmla="val 412"/>
              </a:avLst>
            </a:prstGeom>
            <a:solidFill>
              <a:srgbClr val="f1f7c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2720" y="449280"/>
              <a:ext cx="35334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EP 4:  OUTPUT: gene mod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1"/>
          <a:srcRect l="0" t="11070" r="0" b="3688"/>
          <a:stretch/>
        </p:blipFill>
        <p:spPr>
          <a:xfrm>
            <a:off x="878040" y="1200240"/>
            <a:ext cx="3808440" cy="533700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2057400" y="1023840"/>
            <a:ext cx="6870600" cy="5681880"/>
            <a:chOff x="2057400" y="1023840"/>
            <a:chExt cx="6870600" cy="5681880"/>
          </a:xfrm>
        </p:grpSpPr>
        <p:sp>
          <p:nvSpPr>
            <p:cNvPr id="289" name=""/>
            <p:cNvSpPr/>
            <p:nvPr/>
          </p:nvSpPr>
          <p:spPr>
            <a:xfrm>
              <a:off x="2057400" y="1023840"/>
              <a:ext cx="2627280" cy="5681880"/>
            </a:xfrm>
            <a:custGeom>
              <a:avLst/>
              <a:gdLst>
                <a:gd name="textAreaLeft" fmla="*/ 360 w 2627280"/>
                <a:gd name="textAreaRight" fmla="*/ 2626920 w 2627280"/>
                <a:gd name="textAreaTop" fmla="*/ 360 h 5681880"/>
                <a:gd name="textAreaBottom" fmla="*/ 5681520 h 5681880"/>
              </a:gdLst>
              <a:ahLst/>
              <a:rect l="textAreaLeft" t="textAreaTop" r="textAreaRight" b="textAreaBottom"/>
              <a:pathLst>
                <a:path w="21600" h="46710">
                  <a:moveTo>
                    <a:pt x="13" y="0"/>
                  </a:moveTo>
                  <a:arcTo wR="13" hR="13" stAng="16200000" swAng="-5400000"/>
                  <a:lnTo>
                    <a:pt x="0" y="46697"/>
                  </a:lnTo>
                  <a:arcTo wR="13" hR="13" stAng="10800000" swAng="-5400000"/>
                  <a:lnTo>
                    <a:pt x="21587" y="46710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60600" y="2171880"/>
              <a:ext cx="2867400" cy="348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ression sequence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74960" y="2286000"/>
              <a:ext cx="1325520" cy="152280"/>
            </a:xfrm>
            <a:custGeom>
              <a:avLst/>
              <a:gdLst/>
              <a:ahLst/>
              <a:rect l="l" t="t" r="r" b="b"/>
              <a:pathLst>
                <a:path w="3680" h="424">
                  <a:moveTo>
                    <a:pt x="3679" y="105"/>
                  </a:moveTo>
                  <a:lnTo>
                    <a:pt x="916" y="105"/>
                  </a:lnTo>
                  <a:lnTo>
                    <a:pt x="916" y="0"/>
                  </a:lnTo>
                  <a:lnTo>
                    <a:pt x="0" y="211"/>
                  </a:lnTo>
                  <a:lnTo>
                    <a:pt x="916" y="423"/>
                  </a:lnTo>
                  <a:lnTo>
                    <a:pt x="916" y="317"/>
                  </a:lnTo>
                  <a:lnTo>
                    <a:pt x="3679" y="317"/>
                  </a:lnTo>
                  <a:lnTo>
                    <a:pt x="3679" y="105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305000" y="990720"/>
            <a:ext cx="6078960" cy="5715000"/>
            <a:chOff x="1305000" y="990720"/>
            <a:chExt cx="6078960" cy="5715000"/>
          </a:xfrm>
        </p:grpSpPr>
        <p:sp>
          <p:nvSpPr>
            <p:cNvPr id="293" name=""/>
            <p:cNvSpPr/>
            <p:nvPr/>
          </p:nvSpPr>
          <p:spPr>
            <a:xfrm>
              <a:off x="5846760" y="3372120"/>
              <a:ext cx="1537200" cy="348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 mod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05000" y="990720"/>
              <a:ext cx="774720" cy="5715000"/>
            </a:xfrm>
            <a:custGeom>
              <a:avLst/>
              <a:gdLst>
                <a:gd name="textAreaLeft" fmla="*/ 360 w 774720"/>
                <a:gd name="textAreaRight" fmla="*/ 774360 w 774720"/>
                <a:gd name="textAreaTop" fmla="*/ 360 h 5715000"/>
                <a:gd name="textAreaBottom" fmla="*/ 5714640 h 5715000"/>
              </a:gdLst>
              <a:ahLst/>
              <a:rect l="textAreaLeft" t="textAreaTop" r="textAreaRight" b="textAreaBottom"/>
              <a:pathLst>
                <a:path w="21600" h="159276">
                  <a:moveTo>
                    <a:pt x="44" y="0"/>
                  </a:moveTo>
                  <a:arcTo wR="44" hR="44" stAng="16200000" swAng="-5400000"/>
                  <a:lnTo>
                    <a:pt x="0" y="159232"/>
                  </a:lnTo>
                  <a:arcTo wR="44" hR="44" stAng="10800000" swAng="-5400000"/>
                  <a:lnTo>
                    <a:pt x="21556" y="159276"/>
                  </a:lnTo>
                  <a:arcTo wR="44" hR="44" stAng="5400000" swAng="-5400000"/>
                  <a:lnTo>
                    <a:pt x="21600" y="44"/>
                  </a:lnTo>
                  <a:arcTo wR="44" hR="44" stAng="0" swAng="-5400000"/>
                  <a:close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94120" y="3373200"/>
              <a:ext cx="3681360" cy="309240"/>
            </a:xfrm>
            <a:custGeom>
              <a:avLst/>
              <a:gdLst/>
              <a:ahLst/>
              <a:rect l="l" t="t" r="r" b="b"/>
              <a:pathLst>
                <a:path w="10227" h="865">
                  <a:moveTo>
                    <a:pt x="10226" y="214"/>
                  </a:moveTo>
                  <a:lnTo>
                    <a:pt x="2547" y="214"/>
                  </a:lnTo>
                  <a:lnTo>
                    <a:pt x="2547" y="0"/>
                  </a:lnTo>
                  <a:lnTo>
                    <a:pt x="0" y="431"/>
                  </a:lnTo>
                  <a:lnTo>
                    <a:pt x="2547" y="864"/>
                  </a:lnTo>
                  <a:lnTo>
                    <a:pt x="2547" y="647"/>
                  </a:lnTo>
                  <a:lnTo>
                    <a:pt x="10226" y="647"/>
                  </a:lnTo>
                  <a:lnTo>
                    <a:pt x="10226" y="214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685800" y="449280"/>
            <a:ext cx="3565440" cy="382680"/>
            <a:chOff x="685800" y="449280"/>
            <a:chExt cx="3565440" cy="382680"/>
          </a:xfrm>
        </p:grpSpPr>
        <p:sp>
          <p:nvSpPr>
            <p:cNvPr id="297" name=""/>
            <p:cNvSpPr/>
            <p:nvPr/>
          </p:nvSpPr>
          <p:spPr>
            <a:xfrm>
              <a:off x="685800" y="449280"/>
              <a:ext cx="3565440" cy="382680"/>
            </a:xfrm>
            <a:prstGeom prst="roundRect">
              <a:avLst>
                <a:gd name="adj" fmla="val 412"/>
              </a:avLst>
            </a:prstGeom>
            <a:solidFill>
              <a:srgbClr val="f1f7c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6960" y="449280"/>
              <a:ext cx="35427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EP 4:  gene models annota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716440" y="1936800"/>
            <a:ext cx="335448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ing ev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us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0" t="16527" r="0" b="11059"/>
          <a:stretch/>
        </p:blipFill>
        <p:spPr>
          <a:xfrm>
            <a:off x="208080" y="2049480"/>
            <a:ext cx="5803920" cy="30528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779560" y="1949400"/>
            <a:ext cx="6212160" cy="2013120"/>
          </a:xfrm>
          <a:prstGeom prst="roundRect">
            <a:avLst>
              <a:gd name="adj" fmla="val 79"/>
            </a:avLst>
          </a:prstGeom>
          <a:noFill/>
          <a:ln w="38160">
            <a:solidFill>
              <a:srgbClr val="d404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4584600"/>
            <a:ext cx="8001000" cy="528840"/>
          </a:xfrm>
          <a:prstGeom prst="roundRect">
            <a:avLst>
              <a:gd name="adj" fmla="val 301"/>
            </a:avLst>
          </a:prstGeom>
          <a:noFill/>
          <a:ln w="38160">
            <a:solidFill>
              <a:srgbClr val="d404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ika</cp:lastModifiedBy>
  <dcterms:modified xsi:type="dcterms:W3CDTF">2004-04-24T19:48:53Z</dcterms:modified>
  <cp:revision>35</cp:revision>
  <dc:subject/>
  <dc:title>EAnnot: A genome annotation tool using experimental evidence</dc:title>
</cp:coreProperties>
</file>